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BC19CB8-E943-449D-BD38-45EC087C7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EA3AA5B-4B5E-4B50-A838-67286E6EC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A18D4CD-7916-42A9-AAF3-FDCFC813E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6CE58A5-9FF0-4FC5-A682-E0BA7B0EF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4BF82-E888-477A-93B6-CD473349C9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0F5CF-523F-4DDF-89DB-42FAA2FE6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BC09E-B9D8-49D6-A664-9A366F8F1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4DB99-EDEE-4BF2-9DFC-A456F79BF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4140A-2C06-4E06-89C9-A9FE2B172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FBC96-F4C5-4340-AE6B-8FCC2A8BB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8F9C3-C198-47F1-9A4C-E7CEC046D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82786B8-F00C-411A-9564-05F2DEF97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C36B4-3079-4EDE-9BE0-454B24B8F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3A35C-479A-4846-B817-B0F7A558B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1232C-6E61-48C1-8BD6-7A6E11E82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EBF2ED-3D54-47F3-BB07-52B5A3ED38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4F9EE1-8318-4124-A308-5440043694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24A88EE-A2F3-441B-8343-3CE0D7BFB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1A4172D-ACA3-49A7-96DF-E3E9D3F53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2E939E3-CA89-406C-9EBB-B3D8005A5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DD1AAB8-6291-42ED-9D9C-2E4CEB507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2496C5F-66F6-4CC9-91B9-177652635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CBF9AB-C881-426D-9F1A-D061C5B1F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C3FC4CB-894E-4C62-A516-0A6464416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B3454-4DBF-4D14-AD3E-1EF1398893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30B3-BA3C-4B06-8F14-0DF4D53C8D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HEAVY METALS</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health &amp; environmental effects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of some heavy metals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concentration on RoHS Directive)</a:t>
            </a:r>
            <a:endParaRPr b="0" lang="en-US" sz="3200" spc="-1" strike="noStrike">
              <a:solidFill>
                <a:srgbClr val="ffffff"/>
              </a:solidFill>
              <a:latin typeface="Garamond"/>
            </a:endParaRPr>
          </a:p>
        </p:txBody>
      </p:sp>
      <p:sp>
        <p:nvSpPr>
          <p:cNvPr id="102" name=""/>
          <p:cNvSpPr/>
          <p:nvPr/>
        </p:nvSpPr>
        <p:spPr>
          <a:xfrm>
            <a:off x="0" y="6308640"/>
            <a:ext cx="822960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cc00"/>
                </a:solidFill>
                <a:latin typeface="Garamond"/>
              </a:rPr>
              <a:t>All materials were prepared on the basis of the work and a presentation of dr Adriana Zaleska from Chemical Faculty, Gdańsk University of Technolog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e5e5ff"/>
                </a:solidFill>
                <a:latin typeface="Garamond"/>
              </a:rPr>
              <a:t>Water pollution</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the application of agricultural fertilizers and industrial wastewater dispos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e5e5ff"/>
                </a:solidFill>
                <a:latin typeface="Garamond"/>
              </a:rPr>
              <a:t>Environmental effects of mercury</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Acidic surface waters can contain significant amounts of mercury</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When the pH values are between five and seven, the mercury concentrations in the water will increase due to mobilisation of mercury in the ground</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Once mercury has reached surface waters or soils microorganisms </a:t>
            </a:r>
            <a:r>
              <a:rPr b="1" lang="pl-PL" sz="2800" spc="-1" strike="noStrike">
                <a:solidFill>
                  <a:srgbClr val="ffffff"/>
                </a:solidFill>
                <a:latin typeface="Garamond"/>
              </a:rPr>
              <a:t>can convert it to methyl mercury</a:t>
            </a:r>
            <a:r>
              <a:rPr b="0" lang="pl-PL" sz="2800" spc="-1" strike="noStrike">
                <a:solidFill>
                  <a:srgbClr val="ffffff"/>
                </a:solidFill>
                <a:latin typeface="Garamond"/>
              </a:rPr>
              <a:t>, a substance that can be absorbed quickly by most organisms and is known to cause nerve damage</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e5e5ff"/>
                </a:solidFill>
                <a:latin typeface="Garamond"/>
              </a:rPr>
              <a:t>Environmental effects of mercury</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Garamond"/>
              </a:rPr>
              <a:t>Fish </a:t>
            </a:r>
            <a:r>
              <a:rPr b="0" lang="pl-PL" sz="2800" spc="-1" strike="noStrike">
                <a:solidFill>
                  <a:srgbClr val="ffffff"/>
                </a:solidFill>
                <a:latin typeface="Garamond"/>
              </a:rPr>
              <a:t>are organisms that </a:t>
            </a:r>
            <a:r>
              <a:rPr b="1" lang="pl-PL" sz="2800" spc="-1" strike="noStrike">
                <a:solidFill>
                  <a:srgbClr val="ffffff"/>
                </a:solidFill>
                <a:latin typeface="Garamond"/>
              </a:rPr>
              <a:t>absorb </a:t>
            </a:r>
            <a:r>
              <a:rPr b="0" lang="pl-PL" sz="2800" spc="-1" strike="noStrike">
                <a:solidFill>
                  <a:srgbClr val="ffffff"/>
                </a:solidFill>
                <a:latin typeface="Garamond"/>
              </a:rPr>
              <a:t>great amounts of </a:t>
            </a:r>
            <a:r>
              <a:rPr b="1" lang="pl-PL" sz="2800" spc="-1" strike="noStrike">
                <a:solidFill>
                  <a:srgbClr val="ffffff"/>
                </a:solidFill>
                <a:latin typeface="Garamond"/>
              </a:rPr>
              <a:t>methyl mercury </a:t>
            </a:r>
            <a:r>
              <a:rPr b="0" lang="pl-PL" sz="2800" spc="-1" strike="noStrike">
                <a:solidFill>
                  <a:srgbClr val="ffffff"/>
                </a:solidFill>
                <a:latin typeface="Garamond"/>
              </a:rPr>
              <a:t>from surface waters every day (</a:t>
            </a:r>
            <a:r>
              <a:rPr b="1" lang="pl-PL" sz="2800" spc="-1" strike="noStrike">
                <a:solidFill>
                  <a:srgbClr val="ffffff"/>
                </a:solidFill>
                <a:latin typeface="Garamond"/>
              </a:rPr>
              <a:t>mercury can accumulate </a:t>
            </a:r>
            <a:r>
              <a:rPr b="0" lang="pl-PL" sz="2800" spc="-1" strike="noStrike">
                <a:solidFill>
                  <a:srgbClr val="ffffff"/>
                </a:solidFill>
                <a:latin typeface="Garamond"/>
              </a:rPr>
              <a:t>in fish and in the food chain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Garamond"/>
              </a:rPr>
              <a:t>The effects that mercury has on animals are: </a:t>
            </a:r>
            <a:r>
              <a:rPr b="0" lang="pl-PL" sz="2800" spc="-1" strike="noStrike">
                <a:solidFill>
                  <a:srgbClr val="ffffff"/>
                </a:solidFill>
                <a:latin typeface="Garamond"/>
              </a:rPr>
              <a:t>kidneys damage, stomach disruption, damage to intestines, reproductive failure and DNA alteration</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rot="5400000">
            <a:off x="1344960" y="30600"/>
            <a:ext cx="6669000" cy="6985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e5e5ff"/>
                </a:solidFill>
                <a:latin typeface="Garamond"/>
              </a:rPr>
              <a:t>Cadmium – Cd</a:t>
            </a:r>
            <a:br>
              <a:rPr sz="4000"/>
            </a:br>
            <a:r>
              <a:rPr b="1" lang="pl-PL" sz="4000" spc="-1" strike="noStrike">
                <a:solidFill>
                  <a:srgbClr val="e5e5ff"/>
                </a:solidFill>
                <a:latin typeface="Garamond"/>
              </a:rPr>
              <a:t>HEALTH EFFECTS</a:t>
            </a:r>
            <a:endParaRPr b="1" lang="en-US" sz="40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Human uptake of cadmium takes place mainly through fo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Foodstuffs that are rich in cadmium can greatly increase the cadmium concentration in human bodies (liver, mushrooms, shellfish, mussels, cocoa powder and dried seawe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EALTH EFFECTS</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Diarrhoea, stomach pains and severe vomiting</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Bone fracture</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Reproductive failure and possibly even infertility</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Damage to the central nervous system</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Damage to the immune system</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Psychological disorder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Possibly DNA damage or cancer development</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e5ff"/>
                </a:solidFill>
                <a:latin typeface="Garamond"/>
              </a:rPr>
              <a:t>Environmental effects of cadmium</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Garamond"/>
              </a:rPr>
              <a:t>Cadmium can be transported over great distances when it is absorbed by sludge</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Garamond"/>
              </a:rPr>
              <a:t>This cadmium-rich sludge can pollute surface waters as well as soils</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Garamond"/>
              </a:rPr>
              <a:t>Cadmium strongly adsorbs to organic matter in soils</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Garamond"/>
              </a:rPr>
              <a:t>When cadmium is present in soils it can be extremely dangerous, as the uptake through food will increase</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Garamond"/>
              </a:rPr>
              <a:t>Soils that are acidified enhance the cadmium uptake by plants</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Garamond"/>
              </a:rPr>
              <a:t>This is a potential danger to the animals that are dependent upon the plants for survival – Cadmium can accumulate in their bodies, especially when they eat multiple plants</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Garamond"/>
              </a:rPr>
              <a:t>Cows may have large amounts of cadmium in their kidneys due to thi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e5e5ff"/>
                </a:solidFill>
                <a:latin typeface="Garamond"/>
              </a:rPr>
              <a:t>Environmental effects of cadmium</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In aquatic ecosystems cadmium can bioaccumulate in mussels, oysters, shrimps, lobsters and fish</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The susceptibility to cadmium can vary greatly between aquatic organism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Garamond"/>
              </a:rPr>
              <a:t>Salt-water organisms are known to be more resistant to cadmium poisoning than freshwater organism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e5e5ff"/>
                </a:solidFill>
                <a:latin typeface="Garamond"/>
              </a:rPr>
              <a:t>Chromium - Cr</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Chromium(III) is an essential nutrient for humans and shortages may cause heart conditions, disruptions of metabolisms and diabe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But the uptake of too much chromium(III) can cause health effects as well, for instance skin rash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e5e5ff"/>
                </a:solidFill>
                <a:latin typeface="Garamond"/>
              </a:rPr>
              <a:t>Chromium - Cr</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Chromium(VI) is a danger to human health, mainly for people who work in the steel and textile industry</a:t>
            </a:r>
            <a:endParaRPr b="0" lang="en-US" sz="2800" spc="-1" strike="noStrike">
              <a:solidFill>
                <a:srgbClr val="ffffff"/>
              </a:solidFill>
              <a:latin typeface="Garamon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People who smoke tobacco also have a higher chance of exposure to chromium</a:t>
            </a:r>
            <a:endParaRPr b="0" lang="en-US" sz="2800" spc="-1" strike="noStrike">
              <a:solidFill>
                <a:srgbClr val="ffffff"/>
              </a:solidFill>
              <a:latin typeface="Garamon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Hexavalent Chromium – Chromium (VI) is a species of chromium that is forbidden to use in electrical &amp; electronic industry by RoHS Directiv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EAVY METALS</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The term </a:t>
            </a:r>
            <a:r>
              <a:rPr b="1" lang="pl-PL" sz="3200" spc="-1" strike="noStrike">
                <a:solidFill>
                  <a:srgbClr val="ffffff"/>
                </a:solidFill>
                <a:latin typeface="Garamond"/>
              </a:rPr>
              <a:t>heavy metal </a:t>
            </a:r>
            <a:r>
              <a:rPr b="0" lang="pl-PL" sz="3200" spc="-1" strike="noStrike">
                <a:solidFill>
                  <a:srgbClr val="ffffff"/>
                </a:solidFill>
                <a:latin typeface="Garamond"/>
              </a:rPr>
              <a:t>refers to any metallic chemical element that has a relatively high density and is toxic or poisonous at low concentrati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EALTH EFFECTS</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When it is a compound in leather products, it can cause allergic reactions, such as skin rash</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After breathing it in, chromium(VI) can cause nose irritations and nosebleeds</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Upset stomachs and ulcers</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Respiratory problems</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Weakened immune system</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Kidney and liver damage</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Alteration of genetic material</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Garamond"/>
              </a:rPr>
              <a:t>Lung cancer</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Deat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e5e5ff"/>
                </a:solidFill>
                <a:latin typeface="Garamond"/>
              </a:rPr>
              <a:t>Environmental effects of chromium</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Most of the chromium in air will eventually settle and end up in waters or soil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Chromium in soils strongly attaches to soil particles and as a result it will not move towards groundwater</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In water chromium will absorb on sediment and become immobile</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Only a small part of the chromium that ends up in water will eventually dissolv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e5e5ff"/>
                </a:solidFill>
                <a:latin typeface="Garamond"/>
              </a:rPr>
              <a:t>Environmental effects of chromium</a:t>
            </a:r>
            <a:endParaRPr b="1" lang="en-US" sz="40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Chromium(III) is an essential element for organisms that can disrupt the sugar metabolism and cause heart conditions, when the daily dose is too low</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Chromium(VI) is mainly toxic to organisms - it can alter genetic materials and cause cancer</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e5e5ff"/>
                </a:solidFill>
                <a:latin typeface="Garamond"/>
              </a:rPr>
              <a:t>Lead - Pb</a:t>
            </a: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Foods such as fruit, vegetables, meats, grains, seafood, soft drinks and wine may contain significant amounts of lead</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Cigarette smoke also contains small amounts of lead</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e5e5ff"/>
                </a:solidFill>
                <a:latin typeface="Garamond"/>
              </a:rPr>
              <a:t>Health effects of lead</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Disruption of the biosynthesis of haemoglobin and anemia</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A rise in blood pressure</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Kidney damage</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Miscarriage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Disruption of nervous system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Brain damage</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Declined fertility of men through sperm damage</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Diminished learning abilities of childre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Behavioural disruptions of children, such as aggression, impulsive behaviour and hyperactivit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e5e5ff"/>
                </a:solidFill>
                <a:latin typeface="Garamond"/>
              </a:rPr>
              <a:t>Health effects of lead</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Lead can enter a foetus through the placenta of the moth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Because of this it can cause serious damage to the nervous system and the brains of unborn childre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That is why women in pregnancy can not work with lea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e5e5ff"/>
                </a:solidFill>
                <a:latin typeface="Garamond"/>
              </a:rPr>
              <a:t>Lead sources</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application of lead in gasolin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fuel combus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industrial process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solid waste combus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e5e5ff"/>
                </a:solidFill>
                <a:latin typeface="Garamond"/>
              </a:rPr>
              <a:t>Environmental effects of lead</a:t>
            </a:r>
            <a:endParaRPr b="1" lang="en-US" sz="4400" spc="-1" strike="noStrike">
              <a:solidFill>
                <a:srgbClr val="e5e5ff"/>
              </a:solidFill>
              <a:latin typeface="Garamond"/>
            </a:endParaRPr>
          </a:p>
        </p:txBody>
      </p:sp>
      <p:sp>
        <p:nvSpPr>
          <p:cNvPr id="15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Lead accumulates in the bodies of water organisms and soil organisms</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Health effects on shellfish can take place even when only very small concentrations of lead are present</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Body functions of phytoplankton can be disturbed when lead interferes. Phytoplankton is an important source of oxygen production in seas and many larger sea-animals eat it</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That is why we now begin to wonder whether lead pollution can influence global balances</a:t>
            </a:r>
            <a:endParaRPr b="0" lang="en-US" sz="2800" spc="-1" strike="noStrike">
              <a:solidFill>
                <a:srgbClr val="ffffff"/>
              </a:solidFill>
              <a:latin typeface="Garamond"/>
            </a:endParaRPr>
          </a:p>
        </p:txBody>
      </p:sp>
      <p:sp>
        <p:nvSpPr>
          <p:cNvPr id="154" name=""/>
          <p:cNvSpPr/>
          <p:nvPr/>
        </p:nvSpPr>
        <p:spPr>
          <a:xfrm>
            <a:off x="3635280" y="2205000"/>
            <a:ext cx="935280" cy="420840"/>
          </a:xfrm>
          <a:prstGeom prst="downArrow">
            <a:avLst>
              <a:gd name="adj1" fmla="val 50000"/>
              <a:gd name="adj2" fmla="val 25000"/>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3635280" y="3500280"/>
            <a:ext cx="935280" cy="420840"/>
          </a:xfrm>
          <a:prstGeom prst="downArrow">
            <a:avLst>
              <a:gd name="adj1" fmla="val 50000"/>
              <a:gd name="adj2" fmla="val 25000"/>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3635280" y="5157720"/>
            <a:ext cx="935280" cy="420840"/>
          </a:xfrm>
          <a:prstGeom prst="downArrow">
            <a:avLst>
              <a:gd name="adj1" fmla="val 50000"/>
              <a:gd name="adj2" fmla="val 25000"/>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e5e5ff"/>
                </a:solidFill>
                <a:latin typeface="Garamond"/>
              </a:rPr>
              <a:t>Environmental effects of lead</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Soil functions are disturbed by lead intervention, especially near highways and farmlands, where extreme concentrations may be pres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Also soil organisms are suffered from lead poisoning</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EAVY METALS</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Garamond"/>
              </a:rPr>
              <a:t>are natural components of the Earth's crust</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Garamond"/>
              </a:rPr>
              <a:t>they cannot be degraded or destroyed</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Garamond"/>
              </a:rPr>
              <a:t>to a small extent they enter our bodies via food, drinking water and air</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Garamond"/>
              </a:rPr>
              <a:t>as trace elements, some heavy metals (e.g. copper,</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Garamond"/>
              </a:rPr>
              <a:t>selenium, zinc) are essential to maintain the metabolism of the human body</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Garamond"/>
              </a:rPr>
              <a:t>however, at higher concentrations they can lead to poisoning</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Garamond"/>
              </a:rPr>
              <a:t>heavy metal poisoning could result, for instance, from drinking-water contamination (e.g. lead pipes), high ambient air concentrations near emission sources, or intake via the food cha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 BIGGEST DISASTERS WITH „A SPECIAL APPEARANCE” OF HEAVY METALS</a:t>
            </a:r>
            <a:endParaRPr b="1" lang="en-US" sz="4000" spc="-1" strike="noStrike">
              <a:solidFill>
                <a:srgbClr val="e5e5ff"/>
              </a:solidFill>
              <a:latin typeface="Garamond"/>
            </a:endParaRPr>
          </a:p>
        </p:txBody>
      </p:sp>
      <p:sp>
        <p:nvSpPr>
          <p:cNvPr id="10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Garamond"/>
              </a:rPr>
              <a:t>1932-1952 Minamata</a:t>
            </a: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Sewage containing mercury is released by Chisso's chemicals works into Minimata Bay in Japan. The mercury accumulates in sea creatures, leading eventually to mercury poisoning in the population.</a:t>
            </a: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In 1952, the first incidents of mercury poisoning appear in the population of MinimataBay in Japan, caused by consumption of fish polluted with mercury, bringing nearly 1000 fatalities. Since then, Japan has had the strictest environmental laws in the industrialised world.</a:t>
            </a: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 BIGGEST DISASTERS WITH „A SPECIAL APPEARANCE” OF HEAVY METALS</a:t>
            </a:r>
            <a:endParaRPr b="1" lang="en-US" sz="4000" spc="-1" strike="noStrike">
              <a:solidFill>
                <a:srgbClr val="e5e5ff"/>
              </a:solidFill>
              <a:latin typeface="Garamond"/>
            </a:endParaRPr>
          </a:p>
        </p:txBody>
      </p:sp>
      <p:sp>
        <p:nvSpPr>
          <p:cNvPr id="110" name="PlaceHolder 2"/>
          <p:cNvSpPr>
            <a:spLocks noGrp="1"/>
          </p:cNvSpPr>
          <p:nvPr>
            <p:ph/>
          </p:nvPr>
        </p:nvSpPr>
        <p:spPr>
          <a:xfrm>
            <a:off x="468360" y="1844280"/>
            <a:ext cx="8229600" cy="4853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Garamond"/>
              </a:rPr>
              <a:t>1986-11-01 Sandoz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Water used to extinguish a major fire carries c. 30 t fungicide containing mercury into the Upper Rhine. Fish are killed over a stretch of 100 km. The shock drives many FEA projects forwards. See also "Pollution of the Rhine at Basel / Sandoz".</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 BIGGEST DISASTERS WITH „A SPECIAL APPEARANCE” OF HEAVY METALS</a:t>
            </a:r>
            <a:endParaRPr b="1" lang="en-US" sz="4000" spc="-1" strike="noStrike">
              <a:solidFill>
                <a:srgbClr val="e5e5ff"/>
              </a:solidFill>
              <a:latin typeface="Garamond"/>
            </a:endParaRPr>
          </a:p>
        </p:txBody>
      </p:sp>
      <p:sp>
        <p:nvSpPr>
          <p:cNvPr id="112" name="PlaceHolder 2"/>
          <p:cNvSpPr>
            <a:spLocks noGrp="1"/>
          </p:cNvSpPr>
          <p:nvPr>
            <p:ph/>
          </p:nvPr>
        </p:nvSpPr>
        <p:spPr>
          <a:xfrm>
            <a:off x="468360" y="1860480"/>
            <a:ext cx="8229600" cy="49975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Garamond"/>
              </a:rPr>
              <a:t>1998-04 Spanish nature reserve contaminated after environmental disaster</a:t>
            </a:r>
            <a:r>
              <a:rPr b="0" lang="pl-PL" sz="2800" spc="-1" strike="noStrike">
                <a:solidFill>
                  <a:srgbClr val="ffffff"/>
                </a:solidFill>
                <a:latin typeface="Garamond"/>
              </a:rPr>
              <a:t> </a:t>
            </a:r>
            <a:endParaRPr b="0" lang="en-US" sz="2800" spc="-1" strike="noStrike">
              <a:solidFill>
                <a:srgbClr val="ffffff"/>
              </a:solidFill>
              <a:latin typeface="Garamon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Garamond"/>
              </a:rPr>
              <a:t>Toxic chemicals in water from a burst dam belonging to a mine contaminate the Coto de Donana nature reserve in southern Spain. C. 5 million m_ of mud containing sulphur, lead, copper, zinc and cadmium flow down the Rio Guadimar. Experts estimate that Europe's largest bird sanctuary, as well as Spain's agriculture and fisheries, will suffer permanent damage from the pollu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e5e5ff"/>
                </a:solidFill>
                <a:latin typeface="Garamond"/>
              </a:rPr>
              <a:t>Mercury - Hg</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Mercury is the only common metal which is liquid at ordinary temperatures. It rarely occurs free in nature and is found mainly in cinnabar ore (HgS) in Spain and Italy. </a:t>
            </a:r>
            <a:endParaRPr b="0" lang="en-US" sz="3200" spc="-1" strike="noStrike">
              <a:solidFill>
                <a:srgbClr val="ffffff"/>
              </a:solidFill>
              <a:latin typeface="Garamond"/>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It alloys easily with many metals, such as gold, silver, and tin - these alloys are called amalgams. Its ease in amalgamating with gold is used in the recovery of gold from its or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e5e5ff"/>
                </a:solidFill>
                <a:latin typeface="Garamond"/>
              </a:rPr>
              <a:t>Health effects of mercury</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Disruption of the nervous system</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Damage to brain func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DNA damage and chromosomal dama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Allergic reactions, resulting in skin rashes, tiredness and headach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Negative reproductive effects, such as sperm damage, birth defects and miscarriag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e5e5ff"/>
                </a:solidFill>
                <a:latin typeface="Garamond"/>
              </a:rPr>
              <a:t>Air pollution</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Fossil fuel combus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Min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Smelt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Garamond"/>
              </a:rPr>
              <a:t>Solid waste combus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0T18:20:30Z</dcterms:created>
  <dc:creator>Piotr Obuch.</dc:creator>
  <dc:description/>
  <dc:language>en-US</dc:language>
  <cp:lastModifiedBy>Piotr Obuch.</cp:lastModifiedBy>
  <dcterms:modified xsi:type="dcterms:W3CDTF">2008-07-10T20:21:53Z</dcterms:modified>
  <cp:revision>4</cp:revision>
  <dc:subject/>
  <dc:title>HEAVY METALS</dc:title>
</cp:coreProperties>
</file>