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F5D3-702A-4C72-9408-1E752EA6F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FB4F-929F-42B9-8F5A-9C6398FE6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1D97-0A92-44CE-AE15-D611AC0DA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FD09-F8D8-42F9-8428-898F8B162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9FCA7-7034-4135-8C17-2D5BDE9EC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58727-1A7A-4A33-B48C-554AF9E87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B0353-DE28-4A96-AC9D-BD51DE650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6B898-8ECE-4462-954A-EDB81B570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BFDAF-09EA-4D13-9329-7A490DBFC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8BB40-3009-417C-86C0-E8E918A8D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C96B3-E506-44FB-B724-C1D7AFC4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FC78-0142-4199-81D3-80862100F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7BE30-7535-4E2C-A1BA-7196AA5F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74C99-3E41-47E7-B574-8B3EFEF9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B2400-820D-4F0A-98A2-4D4F11F44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C8FF5-D1DE-4220-9BA7-2F2A653C4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B1D1D-15FC-46A3-B928-E6D5FC350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62AB-9526-487F-81E2-7F41E345B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2237-2601-4E67-B54B-2EE2E7E1F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B3D9-E8B7-444F-BA32-AE1DD2CAA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AFDD-5A34-455B-862C-E1F028132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3DA4-1A8C-4B65-A35D-F182E9E5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A9FA-6B4D-41D8-8B8D-F8494CD1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3B37-78AD-4FA6-98BC-6147A7F5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315C9-D87E-4739-A342-8DBE603B822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F97DF-341A-46CB-9295-91BE25EC7B4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NVIRONMENTAL ASPEC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Element of an organization’s activities or products or services that can interact with the environ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A significant environmental aspect has or can have a significant environmental impa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00000" y="304560"/>
            <a:ext cx="7710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NVIRONMENTAL IMPAC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Any change to the environment, whether adverse or beneficial, wholly or partially resulting from an organization’s environmental aspec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NVIRONMEN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Surroundings in which an organization operates, including air, water, land, natural resources, flora, fauna, humans, and their interrel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6T21:55:09Z</dcterms:created>
  <dc:creator>Piotr Obuch.</dc:creator>
  <dc:description/>
  <dc:language>en-US</dc:language>
  <cp:lastModifiedBy>Piotr Obuch.</cp:lastModifiedBy>
  <dcterms:modified xsi:type="dcterms:W3CDTF">2008-07-06T22:01:56Z</dcterms:modified>
  <cp:revision>2</cp:revision>
  <dc:subject/>
  <dc:title>ENVIRONMENTAL ASPECT</dc:title>
</cp:coreProperties>
</file>