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8480" y="4665600"/>
            <a:ext cx="4891320" cy="441792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4EDCD47-B19A-40A5-8DF7-B25865DEA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7AF53A-697E-4C8D-9EC8-511EE58E9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8FECB70-A654-450E-B09D-105234001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EF42ACD-8566-4B9E-8196-AF3533E21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6816CAF-7F6B-4D71-9681-B5BDBDD116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131F6CF-597F-4C72-9E8C-7F315DDAFC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E783AC2-B22C-4C41-9B3D-522B2E417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7341AE0-5273-43DD-9DD6-8F6E62665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09D9FFF-0FF7-4185-BA2E-3B4E85878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078526-9BF1-4637-B8A1-3250E1908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9DF782F-C62C-4CD7-8E71-69C3999B6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53399E1-8D34-4C9F-A495-EB2D71178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6DF658E-DC94-4FB9-A547-455B49136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27FCD6E-1D24-41D0-AC62-57326E0DF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9DA41CE-8F70-40BC-9C1F-631A8F2C9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12F4F5D-ED58-4476-A8EE-18502EAC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CD43E63-D46C-495C-9A7E-82216F2A7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79A54A2-61AE-46F0-A661-2A57B9CC7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799B569-528D-4098-B387-3670B6E589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174E5BE-A542-48D4-98DF-3BC5E45323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DBDD71E-3285-4F78-8893-84A797C27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B5A6B34-70DB-4ED2-ACF5-0DC71A5C8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7A4E6C-D1B9-4767-915F-FDEF5394D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C3178AC-FCDA-4B01-9EE5-26B002A19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03B8130-C18F-454B-B15C-7B439A742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EBA4892-8CDC-40FF-A6D3-91CF449C2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4AFEF9F-0FD7-496F-8597-A503E7255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6BC7FD7-5676-4063-B25F-68A425F0C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90E14DD-EA94-4A00-80C5-39EA295B7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2C913F-1B35-4DAD-8A2D-B2FE50C0D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C63DEB2-6FE5-4BB4-A349-F71B05293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35EF06A-B867-42BD-A83D-1C896C3C1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BEF2999-62C8-43F0-9148-94D965901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7D3DB37-C9A4-49F0-9BF5-E8A155D4A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0A725AE-9CBD-43EC-AEEB-146C54E0BA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666C73F-A3D9-4EB2-96BC-7A07D46AC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CF67F62-0C2C-49E5-A6FA-31530109B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DAD3823-9700-4C4F-B4B9-6B7C92C4D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77820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8C065F-BF9A-482A-A304-8C09E47A62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932940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778200" y="-360"/>
            <a:ext cx="2890800" cy="490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4CB19-BC86-457C-A5D5-7518A2C30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1C801-B665-4CA8-B67F-000DC9CDF6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901A-0B14-4065-B943-B36811DC15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C0528-D1A9-4864-914D-B9C51CD75D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F9D-DB9D-40BA-A351-8D328E75D7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8121-74FE-4246-9DE4-516C52C1F1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E2C-0F92-4DB8-BC86-9F5F75268D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A445-DC01-4531-8185-474F7D07DF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425-49AE-4EE5-AE0F-12B1E00367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5EA5-F3BE-4758-A363-85454EF52E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3A50-FD48-44F7-B324-9D865E4A89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3F87D-5052-4627-B5D4-D5506C887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8CCA-73F2-4D55-A284-9C7FEC9F714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D8C2-E374-4FF2-A90A-947DF282AE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25BE-EE6C-4F43-86FE-3C715657580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DF72-533A-464D-8FB5-BD759DF224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6F7-895B-416D-8018-19662F84EA8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062D-46C4-4A25-871F-C7936C54B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C408D-10B0-4F71-9F0F-916F0A3A18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E9471-28E7-45B6-8926-89209C362B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B2ACC-242F-4D90-B593-446B493052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A8034-EE34-426A-B0B6-2113372BD8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44C4-C0CA-4F5D-AB16-0EC3762F0B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9D533-3A20-4547-AD1E-4CABDF3486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826560" y="6400800"/>
            <a:ext cx="6324840" cy="45720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r>
              <a:rPr b="1" lang="hu-HU" sz="1200" spc="-1" strike="noStrike">
                <a:solidFill>
                  <a:srgbClr val="000000"/>
                </a:solidFill>
                <a:latin typeface="Tahoma"/>
              </a:rPr>
              <a:t> 4th of July 2008, Wars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534160" y="6324480"/>
            <a:ext cx="533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B3CF4-C6CE-452D-A77A-185A69C3FE20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6920" y="6237360"/>
            <a:ext cx="800100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16120" y="836640"/>
            <a:ext cx="807696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10800000"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3971880"/>
            <a:ext cx="762120" cy="2886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B455-D012-473E-A579-00ADE87BF457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26920" y="5335560"/>
            <a:ext cx="800100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6920" y="1197000"/>
            <a:ext cx="8077320" cy="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132000" y="5516640"/>
            <a:ext cx="2886120" cy="7617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i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lektroeko.pl/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619280" y="2997000"/>
            <a:ext cx="640080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9900"/>
                </a:solidFill>
                <a:latin typeface="Verdana"/>
              </a:rPr>
              <a:t>WEEE </a:t>
            </a:r>
            <a:endParaRPr b="1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ff9900"/>
                </a:solidFill>
                <a:latin typeface="Verdana"/>
              </a:rPr>
              <a:t>– </a:t>
            </a:r>
            <a:r>
              <a:rPr b="1" lang="pl-PL" sz="3100" spc="-1" strike="noStrike">
                <a:solidFill>
                  <a:srgbClr val="ff9900"/>
                </a:solidFill>
                <a:latin typeface="Verdana"/>
              </a:rPr>
              <a:t>theory and practice</a:t>
            </a:r>
            <a:endParaRPr b="1" lang="en-US" sz="31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4th of July 200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Verdana"/>
              </a:rPr>
              <a:t>Warsaw</a:t>
            </a:r>
            <a:r>
              <a:rPr b="0" lang="hu-HU" sz="15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684000" y="1916280"/>
            <a:ext cx="845964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000000"/>
                </a:solidFill>
                <a:latin typeface="Verdana"/>
              </a:rPr>
              <a:t>Business Support Programme for Bulgaria, Romania, Croatia and Turkey</a:t>
            </a:r>
            <a:endParaRPr b="1" i="1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>
            <a:off x="3809880" y="1600200"/>
            <a:ext cx="22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Verdana"/>
              </a:rPr>
              <a:t>BSP 2007/142-7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E04B-4262-4935-9749-8C27849C715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WEEE Directive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8158320" cy="165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More you know the Directive, you better influence local law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Directive is not the law for the local actor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73802-2C81-476F-B1BA-6EDD1D535E94}" type="slidenum">
              <a:t>10</a:t>
            </a:fld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WEEE Directive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55640" y="1341000"/>
            <a:ext cx="8158320" cy="46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eparations – time fra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Entered into force:  27 January 200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Having regard to the Treaty, in particular Art. 17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erogations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new countries + Gre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e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e, Irela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ont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ream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Co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Anexes (IA-categories, IB-groups, II Minimum chemicals treated, III Technical requirements, IV Symbo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in assumpt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oducers responsibility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, monitoring, scope, systems, separate collection, targets, B2B/B2C, marking the produc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9F607-69C6-43DA-B413-15EF3214C87A}" type="slidenum">
              <a:t>11</a:t>
            </a:fld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7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1" i="1" lang="pl-PL" sz="2700" spc="-1" strike="noStrike">
                <a:solidFill>
                  <a:srgbClr val="000000"/>
                </a:solidFill>
                <a:latin typeface="Verdana"/>
              </a:rPr>
              <a:t>. WEEE Directive</a:t>
            </a:r>
            <a:endParaRPr b="1" i="1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71280" y="981000"/>
            <a:ext cx="771516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Challeng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The same target of 4 kg per every count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Verdana"/>
              </a:rPr>
              <a:t>Definition of the Producer and „product put on the market” – European acto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Risk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ousehold coll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isible fee – different opinions of the industries, of produc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hort time fra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Weak point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Historical / new waste (POM, selection, local registration) – individual responsibilit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B2B / B2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</a:rPr>
              <a:t>Deadlines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Local implementations (by 13th of August 2004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Separate collection (2006, 2008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Visible fee for historical products (2001, 201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Revision, new targets (2008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926DB-BE6D-4CF7-A932-961A2684EF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8137440" cy="90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WEEE in Poland – local Act</a:t>
            </a:r>
            <a:r>
              <a:rPr b="1" i="1" lang="pl-PL" sz="26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600"/>
            </a:br>
            <a:r>
              <a:rPr b="1" i="1" lang="pl-PL" sz="2600" spc="-1" strike="noStrike">
                <a:solidFill>
                  <a:srgbClr val="000000"/>
                </a:solidFill>
                <a:latin typeface="Verdana"/>
              </a:rPr>
              <a:t>- transposition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1125000"/>
            <a:ext cx="7859880" cy="496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Time challenge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Deadline: 13th of August 200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Published 29th of July 2005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Entered into force: 20 Oct 200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Involved parties –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ollaboration and fight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GOs, Recyclers, Municipalities, Chambers, other industries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. Retailers not presen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tag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Government (Ministries) &gt; Parliament &gt; Presid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Lobbing activi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llaboration with Ministries and Parliame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Priorities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Danger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Tactics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Allies (sister industries) MDA/CE/IT/Telkom/Lamps (creation of new chambers and Union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ssible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4E86A-108F-42B4-AE08-384E2F9EB2B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200" spc="-1" strike="noStrike">
                <a:solidFill>
                  <a:srgbClr val="000000"/>
                </a:solidFill>
                <a:latin typeface="Verdana"/>
              </a:rPr>
              <a:t>lobbing activities - main areas of concern</a:t>
            </a: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6560" y="907560"/>
            <a:ext cx="7797960" cy="518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no </a:t>
            </a: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quantitative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targets for collection</a:t>
            </a: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 (4 kg)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Producers should not be the only responsible for i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Legal targets are  not necessary to collec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no mandatory household collection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collection only </a:t>
            </a:r>
            <a:r>
              <a:rPr b="0" lang="pl-PL" sz="1700" spc="-1" strike="noStrike" u="sng">
                <a:solidFill>
                  <a:srgbClr val="000000"/>
                </a:solidFill>
                <a:uFillTx/>
                <a:latin typeface="Verdana"/>
              </a:rPr>
              <a:t>from</a:t>
            </a: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 coletion point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Recycling targets from collected not „put on the market” products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Visible Fee </a:t>
            </a:r>
            <a:r>
              <a:rPr b="1" lang="en-GB" sz="1500" spc="-1" strike="noStrike">
                <a:solidFill>
                  <a:srgbClr val="000000"/>
                </a:solidFill>
                <a:latin typeface="Verdana"/>
              </a:rPr>
              <a:t>(possible for producers, mandatory for shops)</a:t>
            </a:r>
            <a:endParaRPr b="1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voiding free riders</a:t>
            </a: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 (high penalties, good monitoring)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reation of Clearing House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ake back system exclusive for producers</a:t>
            </a: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ndividual producer’s responsibility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o deposit (</a:t>
            </a: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or any financial motivation for consumers)</a:t>
            </a:r>
            <a:endParaRPr b="1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o registration number on the single product!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6A42B-018D-42E8-98B0-73EA1440F856}" type="slidenum">
              <a:t>14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534960" y="1057320"/>
          <a:ext cx="8075520" cy="4743360"/>
        </p:xfrm>
        <a:graphic>
          <a:graphicData uri="http://schemas.openxmlformats.org/drawingml/2006/table">
            <a:tbl>
              <a:tblPr/>
              <a:tblGrid>
                <a:gridCol w="432360"/>
                <a:gridCol w="877680"/>
                <a:gridCol w="1115280"/>
                <a:gridCol w="808560"/>
                <a:gridCol w="216000"/>
                <a:gridCol w="573480"/>
                <a:gridCol w="238320"/>
                <a:gridCol w="1016640"/>
                <a:gridCol w="810000"/>
                <a:gridCol w="216000"/>
                <a:gridCol w="747000"/>
                <a:gridCol w="216000"/>
                <a:gridCol w="808200"/>
              </a:tblGrid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habitants in Poland: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 300 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are of MDA/SDA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cenario 1 (according to directive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Scenario 2 (rea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rgeted collec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llection do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unt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A/S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DA/SD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/capi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s E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/capit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k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ts E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6 6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 47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375 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 5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8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967 8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 9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 705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063 7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 653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353 6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 710 1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 2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94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751 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 0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 624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 127 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 2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94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751 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 0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248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 503 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3 2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 94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751 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9 0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 768 0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6 3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1 100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2 995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9 694 6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0 153 0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 401 6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 293 0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41C6A-8019-4A61-B092-C1F6FD660E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588000" y="765000"/>
            <a:ext cx="0" cy="554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762120"/>
            <a:ext cx="0" cy="554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762120"/>
            <a:ext cx="0" cy="554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Dates concerning the producers (base: art. 90, </a:t>
            </a:r>
            <a:r>
              <a:rPr b="0" lang="pl-PL" sz="1800" spc="-1" strike="noStrike" u="sng">
                <a:solidFill>
                  <a:srgbClr val="000000"/>
                </a:solidFill>
                <a:uFillTx/>
                <a:latin typeface="Tahoma"/>
              </a:rPr>
              <a:t>96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5640" y="765000"/>
            <a:ext cx="0" cy="554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762120"/>
            <a:ext cx="0" cy="5543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4191120"/>
            <a:ext cx="1670040" cy="107928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ahoma"/>
              </a:rPr>
              <a:t>REGISTER</a:t>
            </a: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ahoma"/>
              </a:rPr>
              <a:t>(art. 6-1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10800000">
            <a:off x="0" y="907920"/>
            <a:ext cx="179280" cy="51134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Tahoma"/>
              </a:rPr>
              <a:t>The Act published – 29 VII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5589720"/>
            <a:ext cx="5879880" cy="287280"/>
          </a:xfrm>
          <a:custGeom>
            <a:avLst/>
            <a:gdLst>
              <a:gd name="textAreaLeft" fmla="*/ 0 w 5879880"/>
              <a:gd name="textAreaRight" fmla="*/ 5880240 w 58798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Shop: receiving the equipment </a:t>
            </a: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1:1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; + information about collection points (art. 4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5229360"/>
            <a:ext cx="1295280" cy="304560"/>
          </a:xfrm>
          <a:custGeom>
            <a:avLst/>
            <a:gdLst>
              <a:gd name="textAreaLeft" fmla="*/ 0 w 1295280"/>
              <a:gd name="textAreaRight" fmla="*/ 1295640 w 129528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including re-us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to the recycling</a:t>
            </a:r>
            <a:r>
              <a:rPr b="0" lang="pl-PL" sz="900" spc="-1" strike="noStrike">
                <a:solidFill>
                  <a:srgbClr val="000000"/>
                </a:solidFill>
                <a:latin typeface="Tahoma"/>
              </a:rPr>
              <a:t> 30/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2492280"/>
            <a:ext cx="4114800" cy="36036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putting the registration number</a:t>
            </a:r>
            <a:r>
              <a:rPr b="1" lang="pl-PL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on invoices and other docs (art.2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5950080"/>
            <a:ext cx="8007480" cy="306360"/>
          </a:xfrm>
          <a:prstGeom prst="rect">
            <a:avLst/>
          </a:pr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Possibility to show ‘Visible Fee’ until 2013 or 2011 – art. 9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71640" y="2492280"/>
            <a:ext cx="2303640" cy="416160"/>
          </a:xfrm>
          <a:custGeom>
            <a:avLst/>
            <a:gdLst>
              <a:gd name="textAreaLeft" fmla="*/ 0 w 2303640"/>
              <a:gd name="textAreaRight" fmla="*/ 2304000 w 2303640"/>
              <a:gd name="textAreaTop" fmla="*/ 0 h 416160"/>
              <a:gd name="textAreaBottom" fmla="*/ 416520 h 416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Tahoma"/>
              </a:rPr>
              <a:t>Registration </a:t>
            </a:r>
            <a:r>
              <a:rPr b="0" lang="pl-PL" sz="900" spc="-1" strike="noStrike">
                <a:solidFill>
                  <a:srgbClr val="000000"/>
                </a:solidFill>
                <a:latin typeface="Tahoma"/>
              </a:rPr>
              <a:t>of producers,</a:t>
            </a:r>
            <a:r>
              <a:rPr b="1" lang="pl-PL" sz="9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900" spc="-1" strike="noStrike">
                <a:solidFill>
                  <a:srgbClr val="000000"/>
                </a:solidFill>
                <a:latin typeface="Tahoma"/>
              </a:rPr>
              <a:t>Recovery Organizations and other entities (art. 9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71640" y="3068640"/>
            <a:ext cx="2232000" cy="5047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Financial security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0" lang="en-GB" sz="1000" spc="-1" strike="noStrike">
                <a:solidFill>
                  <a:srgbClr val="000000"/>
                </a:solidFill>
                <a:latin typeface="Tahoma"/>
              </a:rPr>
              <a:t>joining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the Recovery Organization, (art. 18 - 2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5640" y="1773360"/>
            <a:ext cx="8388360" cy="28728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Preparation of information for </a:t>
            </a: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recyclers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 –art. 26 (art. 11 in the directiv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88000" y="3933720"/>
            <a:ext cx="2556000" cy="433440"/>
          </a:xfrm>
          <a:custGeom>
            <a:avLst/>
            <a:gdLst>
              <a:gd name="textAreaLeft" fmla="*/ 0 w 2556000"/>
              <a:gd name="textAreaRight" fmla="*/ 2556360 w 2556000"/>
              <a:gd name="textAreaTop" fmla="*/ 0 h 433440"/>
              <a:gd name="textAreaBottom" fmla="*/ 433800 h 43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Tahoma"/>
              </a:rPr>
              <a:t>assuring the collection</a:t>
            </a:r>
            <a:r>
              <a:rPr b="0" lang="pl-PL" sz="900" spc="-1" strike="noStrike">
                <a:solidFill>
                  <a:srgbClr val="000000"/>
                </a:solidFill>
                <a:latin typeface="Tahoma"/>
              </a:rPr>
              <a:t> of historical equipment proportionally and the new equipment individually – art. 28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3645000"/>
            <a:ext cx="8182080" cy="287280"/>
          </a:xfrm>
          <a:custGeom>
            <a:avLst/>
            <a:gdLst>
              <a:gd name="textAreaLeft" fmla="*/ 0 w 8182080"/>
              <a:gd name="textAreaRight" fmla="*/ 8182440 w 8182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Organizing and financing take back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pl-PL" sz="1000" spc="-1" strike="noStrike" u="sng">
                <a:solidFill>
                  <a:srgbClr val="000000"/>
                </a:solidFill>
                <a:uFillTx/>
                <a:latin typeface="Tahoma"/>
              </a:rPr>
              <a:t>from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collection points and recovery (art.27) and B2B (art.. 29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2133720"/>
            <a:ext cx="6095880" cy="288720"/>
          </a:xfrm>
          <a:custGeom>
            <a:avLst/>
            <a:gdLst>
              <a:gd name="textAreaLeft" fmla="*/ 0 w 6095880"/>
              <a:gd name="textAreaRight" fmla="*/ 6096240 w 6095880"/>
              <a:gd name="textAreaTop" fmla="*/ 0 h 288720"/>
              <a:gd name="textAreaBottom" fmla="*/ 28908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first </a:t>
            </a: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report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to the Chief Environmental Inspection (art. 24, 31…)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941720"/>
            <a:ext cx="4114800" cy="28764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ssuring the </a:t>
            </a: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network of treatment plants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– art.33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5280" y="4762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0000"/>
                </a:solidFill>
                <a:latin typeface="Tahoma"/>
              </a:rPr>
              <a:t>21 Oct 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0800000">
            <a:off x="250560" y="907920"/>
            <a:ext cx="215640" cy="51134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00"/>
                </a:solidFill>
                <a:uFillTx/>
                <a:latin typeface="Tahoma"/>
              </a:rPr>
              <a:t>The act in force -  21 X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457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0000"/>
                </a:solidFill>
                <a:latin typeface="Tahoma"/>
              </a:rPr>
              <a:t>1 Oct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590920" y="457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0000"/>
                </a:solidFill>
                <a:latin typeface="Tahoma"/>
              </a:rPr>
              <a:t>1 July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476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0000"/>
                </a:solidFill>
                <a:latin typeface="Tahoma"/>
              </a:rPr>
              <a:t>1 Jan’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88000" y="4437000"/>
            <a:ext cx="2556000" cy="457200"/>
          </a:xfrm>
          <a:custGeom>
            <a:avLst/>
            <a:gdLst>
              <a:gd name="textAreaLeft" fmla="*/ 0 w 2556000"/>
              <a:gd name="textAreaRight" fmla="*/ 2556360 w 25560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chieving certain </a:t>
            </a: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levels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o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recovery and recycling (art..3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248520" y="476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0000"/>
                </a:solidFill>
                <a:latin typeface="Tahoma"/>
              </a:rPr>
              <a:t>1 Jan’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907920"/>
            <a:ext cx="8388360" cy="19368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marking 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 of the products with the ‘crossed dust-bin mark’ – art. 2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1125360"/>
            <a:ext cx="8388360" cy="24948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249480"/>
              <a:gd name="textAreaBottom" fmla="*/ 249840 h 24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attaching to the equipment the information 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bout ‘bans and effects and </a:t>
            </a: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mass 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of the product</a:t>
            </a: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– art. 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1341360"/>
            <a:ext cx="8388360" cy="23184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informing 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about the collection systems and the role of households in the ecology – art. 2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1557360"/>
            <a:ext cx="8388360" cy="23184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231840"/>
              <a:gd name="textAreaBottom" fmla="*/ 23220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storing (archieving) of additional data – running new statistics</a:t>
            </a:r>
            <a:r>
              <a:rPr b="1" lang="pl-PL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(art.3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96360" y="3573360"/>
            <a:ext cx="647640" cy="790560"/>
          </a:xfrm>
          <a:custGeom>
            <a:avLst/>
            <a:gdLst>
              <a:gd name="textAreaLeft" fmla="*/ 0 w 647640"/>
              <a:gd name="textAreaRight" fmla="*/ 234000 w 64764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447920" y="457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ff0000"/>
                </a:solidFill>
                <a:latin typeface="Tahoma"/>
              </a:rPr>
              <a:t>1 Jan’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9A5BD-50A8-4CA6-897E-0A3F8E3E2DF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920000" cy="6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WEEE in Poland – </a:t>
            </a:r>
            <a:r>
              <a:rPr b="1" i="1" lang="pl-PL" sz="2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system</a:t>
            </a:r>
            <a:r>
              <a:rPr b="1" i="1" lang="pl-PL" sz="2600" spc="-1" strike="noStrike">
                <a:solidFill>
                  <a:srgbClr val="000000"/>
                </a:solidFill>
                <a:latin typeface="Verdana"/>
              </a:rPr>
              <a:t> in practice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040" y="1125000"/>
            <a:ext cx="797868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form of the system designed in the Ac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ime frame (see the ta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low of documents – will define future structure of the system and system of dependen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inanc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ole of the produc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ystem operators (table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Collecto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reatment pl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ycl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covery organisa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learity in the definitions: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treatment operator &gt; recycler &gt; recovery organis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0055F-D68A-492D-9797-5C95B913D6A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3357720"/>
            <a:ext cx="1403280" cy="792000"/>
          </a:xfrm>
          <a:prstGeom prst="roundRect">
            <a:avLst>
              <a:gd name="adj" fmla="val 16667"/>
            </a:avLst>
          </a:prstGeom>
          <a:solidFill>
            <a:srgbClr val="ffcc99">
              <a:alpha val="5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33333"/>
                </a:solidFill>
                <a:latin typeface="Arial"/>
              </a:rPr>
              <a:t>RECOVERY 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50920" y="5516640"/>
            <a:ext cx="5616720" cy="792000"/>
          </a:xfrm>
          <a:prstGeom prst="flowChartMultidocument">
            <a:avLst/>
          </a:prstGeom>
          <a:solidFill>
            <a:srgbClr val="ff66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mic Sans MS"/>
              </a:rPr>
              <a:t>Recyc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steel works, glas industr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979640" y="2997360"/>
            <a:ext cx="5688000" cy="172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omic Sans MS"/>
              </a:rPr>
              <a:t>Treatment (Processing plants)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eg. Stena, Remondis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– segregation, purification, cleaning, disassembling &amp; cutting, removal of hasardous substances, 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76720" y="2205000"/>
            <a:ext cx="252072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48000" y="4724280"/>
            <a:ext cx="2449440" cy="905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1413000"/>
            <a:ext cx="5545080" cy="82692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Collection points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municipalities/shops/Metal Scrap Ya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0"/>
            <a:ext cx="6408720" cy="76500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765000"/>
            <a:ext cx="21621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42920" y="1773360"/>
            <a:ext cx="936720" cy="3887640"/>
          </a:xfrm>
          <a:custGeom>
            <a:avLst/>
            <a:gdLst>
              <a:gd name="textAreaLeft" fmla="*/ 598680 w 936720"/>
              <a:gd name="textAreaRight" fmla="*/ 937080 w 93672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459640" y="1341360"/>
            <a:ext cx="381240" cy="496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 E G I S T E 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4B012-CC0C-4F5C-AAD1-267CB62C088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9280" y="2924280"/>
            <a:ext cx="190512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0"/>
            <a:ext cx="9144000" cy="765000"/>
          </a:xfrm>
          <a:prstGeom prst="rect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38 mln, 13 mln households, about10 mln appliances (only DA !)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 ann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9640" y="1052640"/>
            <a:ext cx="838440" cy="1584360"/>
          </a:xfrm>
          <a:prstGeom prst="downArrow">
            <a:avLst>
              <a:gd name="adj1" fmla="val 50000"/>
              <a:gd name="adj2" fmla="val 47241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48360" y="2205000"/>
            <a:ext cx="1220760" cy="897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Forests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illeg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rubbi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64000" y="1052640"/>
            <a:ext cx="914400" cy="1008000"/>
          </a:xfrm>
          <a:prstGeom prst="downArrow">
            <a:avLst>
              <a:gd name="adj1" fmla="val 50000"/>
              <a:gd name="adj2" fmla="val 27559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2770920" y="1052640"/>
            <a:ext cx="1600200" cy="13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6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981000"/>
            <a:ext cx="936360" cy="2293920"/>
          </a:xfrm>
          <a:prstGeom prst="downArrow">
            <a:avLst>
              <a:gd name="adj1" fmla="val 50000"/>
              <a:gd name="adj2" fmla="val 61246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3573360"/>
            <a:ext cx="216036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crap Y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340000" y="2637000"/>
            <a:ext cx="2521080" cy="1655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Bins 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housing e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3933720"/>
            <a:ext cx="1206360" cy="1366920"/>
          </a:xfrm>
          <a:prstGeom prst="downArrow">
            <a:avLst>
              <a:gd name="adj1" fmla="val 50000"/>
              <a:gd name="adj2" fmla="val 2832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20000" y="5229360"/>
            <a:ext cx="1439640" cy="93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85</a:t>
            </a:r>
            <a:r>
              <a:rPr b="1" lang="pl-PL" sz="1800" spc="-1" strike="noStrike">
                <a:solidFill>
                  <a:srgbClr val="ff3300"/>
                </a:solidFill>
                <a:latin typeface="Times New Roman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87640" y="4508640"/>
            <a:ext cx="1150920" cy="761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rot="19499400">
            <a:off x="6300720" y="2924280"/>
            <a:ext cx="432000" cy="838080"/>
          </a:xfrm>
          <a:prstGeom prst="downArrow">
            <a:avLst>
              <a:gd name="adj1" fmla="val 50000"/>
              <a:gd name="adj2" fmla="val 48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rot="17098200">
            <a:off x="5161680" y="3408840"/>
            <a:ext cx="1008000" cy="1511280"/>
          </a:xfrm>
          <a:prstGeom prst="downArrow">
            <a:avLst>
              <a:gd name="adj1" fmla="val 50000"/>
              <a:gd name="adj2" fmla="val 3748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445000"/>
            <a:ext cx="6858000" cy="76212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omic Sans MS"/>
              </a:rPr>
              <a:t>Treatment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cleanning, disassembling, segreg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6248520"/>
            <a:ext cx="8136000" cy="609480"/>
          </a:xfrm>
          <a:prstGeom prst="flowChartMultidocumen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omic Sans MS"/>
              </a:rPr>
              <a:t>Recovery (Recyclers) </a:t>
            </a: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 – steelworks, treatment plants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5877000"/>
            <a:ext cx="935280" cy="622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FB1AB-8FDE-45B3-BA96-4BE23290FB4F}" type="slidenum">
              <a:t>19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229600" cy="63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Agenda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55640" y="1052640"/>
            <a:ext cx="8229600" cy="47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Introduction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land&gt; Industries&gt; Chambers&gt; CECED Polska&gt; speak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Type of presentation (interactiv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Knowledge of audie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WEEE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Directiv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olish ca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Local law 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System of collection and recycling  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ain actors (Collectors, Treatment, Recyclers, Recovery Organizations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Producers responsibility – financing and organization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irst results (statistics, challenges, risks…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WEEE „international” – WEEE Forum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Future developmen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Revision of Directive and local Regulation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B1B1-FAEF-4F88-9B72-0677A04B4AC8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8317080" cy="6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WEEE </a:t>
            </a: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actors</a:t>
            </a: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i="1" lang="en-GB" sz="3000" spc="-1" strike="noStrike">
                <a:solidFill>
                  <a:srgbClr val="0000ff"/>
                </a:solidFill>
                <a:latin typeface="Verdana"/>
              </a:rPr>
              <a:t>collector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125000"/>
            <a:ext cx="8229600" cy="45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municipalities,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tailers,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metal scrap yards (MSY),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treatment plant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heir market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share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and responsibilities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pend on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untry specific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legal fram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maturity of the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the role of Scrap Yards in not defined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CD47E-DECC-4599-81A3-F26707F61FD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280" y="274320"/>
            <a:ext cx="7931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WEEE actors - </a:t>
            </a:r>
            <a:r>
              <a:rPr b="1" i="1" lang="en-GB" sz="3000" spc="-1" strike="noStrike">
                <a:solidFill>
                  <a:srgbClr val="0000ff"/>
                </a:solidFill>
                <a:latin typeface="Verdana"/>
              </a:rPr>
              <a:t>Treatment plant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362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finition of the body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cal law,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Local (national) operator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Global player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mond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e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t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llaboration, challenges, opportunitie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iversification, real competition – free market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EB822-C0FF-45F1-B609-AC5C7AC249F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777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WEEE actors - </a:t>
            </a:r>
            <a:r>
              <a:rPr b="1" i="1" lang="en-GB" sz="3000" spc="-1" strike="noStrike">
                <a:solidFill>
                  <a:srgbClr val="0000ff"/>
                </a:solidFill>
                <a:latin typeface="Verdana"/>
              </a:rPr>
              <a:t>Recycler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l operator (steel works, chemical factory, glass work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sponsibilities – depend on local law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nfirm the whol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cycling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irc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hallenges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 Poland they are not motivated even to register themselv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y are not eager to report the quantit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387C8-ACBB-45F0-A173-CF2D36BDFA1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806616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000000"/>
                </a:solidFill>
                <a:latin typeface="Verdana"/>
              </a:rPr>
              <a:t>WEEE actors - </a:t>
            </a:r>
            <a:r>
              <a:rPr b="1" i="1" lang="en-GB" sz="2600" spc="-1" strike="noStrike">
                <a:solidFill>
                  <a:srgbClr val="0000ff"/>
                </a:solidFill>
                <a:latin typeface="Verdana"/>
              </a:rPr>
              <a:t>Recovery organizations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9DFCB-4947-4A91-B3B0-CEE0B6C561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3357720"/>
            <a:ext cx="1403280" cy="792000"/>
          </a:xfrm>
          <a:prstGeom prst="roundRect">
            <a:avLst>
              <a:gd name="adj" fmla="val 16667"/>
            </a:avLst>
          </a:prstGeom>
          <a:solidFill>
            <a:srgbClr val="ffcc99">
              <a:alpha val="55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33333"/>
                </a:solidFill>
                <a:latin typeface="Arial"/>
              </a:rPr>
              <a:t>RECOVERY ORGANIZ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5516640"/>
            <a:ext cx="5616720" cy="792000"/>
          </a:xfrm>
          <a:prstGeom prst="flowChartMultidocument">
            <a:avLst/>
          </a:prstGeom>
          <a:solidFill>
            <a:srgbClr val="ff66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Comic Sans MS"/>
              </a:rPr>
              <a:t>Recyc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steel works, glas industry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79640" y="2997360"/>
            <a:ext cx="5688000" cy="1728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omic Sans MS"/>
              </a:rPr>
              <a:t>Treatment (Processing plants)</a:t>
            </a:r>
            <a:r>
              <a:rPr b="0" lang="pl-P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eg. Stena, Remondis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– segregation, purification, cleaning, disassembling &amp; cutting, removal of hasardous substances, forwar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76720" y="2205000"/>
            <a:ext cx="252072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48000" y="4724280"/>
            <a:ext cx="2449440" cy="905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413000"/>
            <a:ext cx="5545080" cy="82692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Collection points </a:t>
            </a:r>
            <a:r>
              <a:rPr b="0" lang="pl-PL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pl-PL" sz="1600" spc="-1" strike="noStrike">
                <a:solidFill>
                  <a:srgbClr val="000000"/>
                </a:solidFill>
                <a:latin typeface="Tahoma"/>
              </a:rPr>
              <a:t>municipalities/shops/Metal Scrap Yar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0"/>
            <a:ext cx="6408720" cy="765000"/>
          </a:xfrm>
          <a:prstGeom prst="cube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ahoma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492360" y="765000"/>
            <a:ext cx="2162160" cy="792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42920" y="1773360"/>
            <a:ext cx="936720" cy="3887640"/>
          </a:xfrm>
          <a:custGeom>
            <a:avLst/>
            <a:gdLst>
              <a:gd name="textAreaLeft" fmla="*/ 598680 w 936720"/>
              <a:gd name="textAreaRight" fmla="*/ 937080 w 936720"/>
              <a:gd name="textAreaTop" fmla="*/ 101160 h 3887640"/>
              <a:gd name="textAreaBottom" fmla="*/ 3786480 h 38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459640" y="1341360"/>
            <a:ext cx="381240" cy="4967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R E G I S T E 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3C834-9EFC-4E7E-B22E-242C530B8C8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806616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600" spc="-1" strike="noStrike">
                <a:solidFill>
                  <a:srgbClr val="000000"/>
                </a:solidFill>
                <a:latin typeface="Verdana"/>
              </a:rPr>
              <a:t>WEEE actors - </a:t>
            </a:r>
            <a:r>
              <a:rPr b="1" i="1" lang="en-GB" sz="2600" spc="-1" strike="noStrike">
                <a:solidFill>
                  <a:srgbClr val="0000ff"/>
                </a:solidFill>
                <a:latin typeface="Verdana"/>
              </a:rPr>
              <a:t>Recovery organizations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26560" y="1052280"/>
            <a:ext cx="7859880" cy="507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ting in behalf of the producers (mainl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sponsible for organization and financing the syst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n profit (?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onopoly in some countries (B, 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= ?Compliance Scheme =? Take Back Syst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European case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P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s Paneuropean initi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Local solution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pending on the l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wned by recyclers or producers … or mi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Financ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olish cas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1EEE-259A-41FB-AA93-98F54599B5C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8066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 u="sng">
                <a:solidFill>
                  <a:srgbClr val="0000ff"/>
                </a:solidFill>
                <a:uFillTx/>
                <a:latin typeface="Verdana"/>
              </a:rPr>
              <a:t>Polish</a:t>
            </a: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 system:         </a:t>
            </a: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i="1" lang="en-GB" sz="3000" spc="-1" strike="noStrike">
                <a:solidFill>
                  <a:srgbClr val="0000ff"/>
                </a:solidFill>
                <a:latin typeface="Verdana"/>
              </a:rPr>
              <a:t>Recovery Organizations</a:t>
            </a: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8066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Definitio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Join Stock Companies – legal bo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EUR 1,3 Mio – initial capit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et up by producers, cha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sponsibilities – organization and financing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of 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the system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al situation – 5 (7) oragani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ation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and financing on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ervice providers (collectors, treatment, recyc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mpetition and market share (tabl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32E3E-1C45-4733-BEC2-BAB6DB097A8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8066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Take back system set up – </a:t>
            </a:r>
            <a:br>
              <a:rPr sz="3000"/>
            </a:b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main question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at is the size of WEEE stream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at is the power of particular channels of WEEE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at is life-time and life circle of our products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ow to implement Visible Fee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at are the best examples in Europe? (benchmark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o should be shareholder of Recovery Organization? Should it be created by one sector or many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he size and character of RO ??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E32A1-DD46-40F9-8754-ADD98378F7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619280" y="692280"/>
            <a:ext cx="2592360" cy="13064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Arial"/>
              </a:rPr>
              <a:t>RECOVERY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33333"/>
                </a:solidFill>
                <a:latin typeface="Arial"/>
              </a:rPr>
              <a:t>negotiations with treatments services + 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5589720"/>
            <a:ext cx="6019560" cy="753840"/>
          </a:xfrm>
          <a:prstGeom prst="flowChartMultidocument">
            <a:avLst/>
          </a:prstGeom>
          <a:solidFill>
            <a:srgbClr val="ff66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mic Sans MS"/>
              </a:rPr>
              <a:t>Pure recycling (steel works, chemical industry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68360" y="836640"/>
            <a:ext cx="1143000" cy="22860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oduce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907920"/>
            <a:ext cx="1143000" cy="22860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oduce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411280" y="9810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oduce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0920" y="2060640"/>
            <a:ext cx="2233800" cy="1139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contra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(3y tend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16000" y="3213000"/>
            <a:ext cx="3527280" cy="10796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Comic Sans MS"/>
              </a:rPr>
              <a:t>Treatm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omic Sans MS"/>
              </a:rPr>
              <a:t>Collecting (forwarding)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omic Sans MS"/>
              </a:rPr>
              <a:t>cleaning, disassembl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omic Sans MS"/>
              </a:rPr>
              <a:t>segregating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11280" y="4365720"/>
            <a:ext cx="172908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1341360"/>
            <a:ext cx="68580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H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948360" y="2781360"/>
            <a:ext cx="685800" cy="10666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u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48360" y="4076640"/>
            <a:ext cx="685800" cy="1067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r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Y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7080" y="1268280"/>
            <a:ext cx="380880" cy="3816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724360" y="836640"/>
            <a:ext cx="1872000" cy="433440"/>
          </a:xfrm>
          <a:prstGeom prst="rect">
            <a:avLst/>
          </a:prstGeom>
          <a:solidFill>
            <a:srgbClr val="ff9900">
              <a:alpha val="77000"/>
            </a:srgbClr>
          </a:solidFill>
          <a:ln cap="rnd" w="126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ollection facilit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OPTION </a:t>
            </a:r>
            <a:r>
              <a:rPr b="1" i="1" lang="en-GB" sz="1900" spc="-1" strike="noStrike">
                <a:solidFill>
                  <a:srgbClr val="ff3300"/>
                </a:solidFill>
                <a:latin typeface="Verdana"/>
              </a:rPr>
              <a:t>1/a</a:t>
            </a: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/: Small (but powerful) Recovery Organization and Big Recyclers</a:t>
            </a:r>
            <a:endParaRPr b="1" i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"/>
          <p:cNvSpPr/>
          <p:nvPr/>
        </p:nvSpPr>
        <p:spPr>
          <a:xfrm rot="19526400">
            <a:off x="4467240" y="2300040"/>
            <a:ext cx="2160720" cy="485640"/>
          </a:xfrm>
          <a:prstGeom prst="rightArrow">
            <a:avLst>
              <a:gd name="adj1" fmla="val 32676"/>
              <a:gd name="adj2" fmla="val 10490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21082200">
            <a:off x="4637160" y="3273120"/>
            <a:ext cx="2089080" cy="485640"/>
          </a:xfrm>
          <a:prstGeom prst="rightArrow">
            <a:avLst>
              <a:gd name="adj1" fmla="val 32676"/>
              <a:gd name="adj2" fmla="val 10142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215000">
            <a:off x="4642920" y="4149720"/>
            <a:ext cx="2016360" cy="485640"/>
          </a:xfrm>
          <a:prstGeom prst="rightArrow">
            <a:avLst>
              <a:gd name="adj1" fmla="val 32676"/>
              <a:gd name="adj2" fmla="val 9789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4365720"/>
            <a:ext cx="172908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4437000"/>
            <a:ext cx="1728720" cy="1143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16360" y="3645000"/>
            <a:ext cx="1655640" cy="576000"/>
          </a:xfrm>
          <a:prstGeom prst="flowChartMultidocument">
            <a:avLst/>
          </a:prstGeom>
          <a:solidFill>
            <a:srgbClr val="99cc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Comic Sans MS"/>
              </a:rPr>
              <a:t>Forwarders</a:t>
            </a:r>
            <a:r>
              <a:rPr b="0" lang="pl-PL" sz="10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Comic Sans MS"/>
              </a:rPr>
              <a:t>transport compan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1AF61-8D3D-4252-BC0B-F3C961380371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4280" y="836640"/>
            <a:ext cx="5248440" cy="151272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3333"/>
                </a:solidFill>
                <a:latin typeface="Arial"/>
              </a:rPr>
              <a:t>RECOVERY ORGANIZATION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collection deals, logistics,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pl-PL" sz="1400" spc="-1" strike="noStrike">
                <a:solidFill>
                  <a:srgbClr val="333333"/>
                </a:solidFill>
                <a:latin typeface="Arial"/>
              </a:rPr>
              <a:t>sales, monitoring / reporting, financials, marketing, education, consulting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5661000"/>
            <a:ext cx="6019560" cy="754200"/>
          </a:xfrm>
          <a:prstGeom prst="flowChartMultidocument">
            <a:avLst/>
          </a:prstGeom>
          <a:solidFill>
            <a:srgbClr val="ff66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mic Sans MS"/>
              </a:rPr>
              <a:t>Pure recycling (steel works, chemical industry…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68360" y="836640"/>
            <a:ext cx="1143000" cy="22860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oduce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340000" y="907920"/>
            <a:ext cx="1143000" cy="22860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oduce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411280" y="981000"/>
            <a:ext cx="1219320" cy="22860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oduce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3068640"/>
            <a:ext cx="505080" cy="576360"/>
          </a:xfrm>
          <a:prstGeom prst="downArrow">
            <a:avLst>
              <a:gd name="adj1" fmla="val 50000"/>
              <a:gd name="adj2" fmla="val 2852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3716280"/>
            <a:ext cx="143964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mic Sans MS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042920" y="4941720"/>
            <a:ext cx="576360" cy="495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0000" y="1413000"/>
            <a:ext cx="685800" cy="647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H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020000" y="2205000"/>
            <a:ext cx="685800" cy="8636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u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.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020000" y="3213000"/>
            <a:ext cx="68580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Scr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Y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459640" y="1413000"/>
            <a:ext cx="381240" cy="381636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CONSU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84720" y="836640"/>
            <a:ext cx="1872000" cy="433440"/>
          </a:xfrm>
          <a:prstGeom prst="rect">
            <a:avLst/>
          </a:prstGeom>
          <a:solidFill>
            <a:srgbClr val="ff9900">
              <a:alpha val="77000"/>
            </a:srgbClr>
          </a:solidFill>
          <a:ln cap="rnd" w="1260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collection faciliti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900" spc="-1" strike="noStrike">
                <a:solidFill>
                  <a:srgbClr val="000000"/>
                </a:solidFill>
                <a:latin typeface="Verdana"/>
              </a:rPr>
              <a:t>OPTION </a:t>
            </a:r>
            <a:r>
              <a:rPr b="1" i="1" lang="en-GB" sz="1700" spc="-1" strike="noStrike">
                <a:solidFill>
                  <a:srgbClr val="ff3300"/>
                </a:solidFill>
                <a:latin typeface="Verdana"/>
              </a:rPr>
              <a:t>1/b</a:t>
            </a:r>
            <a:r>
              <a:rPr b="1" i="1" lang="en-GB" sz="1700" spc="-1" strike="noStrike">
                <a:solidFill>
                  <a:srgbClr val="000000"/>
                </a:solidFill>
                <a:latin typeface="Verdana"/>
              </a:rPr>
              <a:t>/: Big &amp; Strong Recovery Organization – chart of contracts</a:t>
            </a:r>
            <a:endParaRPr b="1" i="1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4869000"/>
            <a:ext cx="647640" cy="495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63640" y="5013360"/>
            <a:ext cx="576360" cy="4953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3068640"/>
            <a:ext cx="504720" cy="576360"/>
          </a:xfrm>
          <a:prstGeom prst="downArrow">
            <a:avLst>
              <a:gd name="adj1" fmla="val 50000"/>
              <a:gd name="adj2" fmla="val 2854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332000" y="3068640"/>
            <a:ext cx="504720" cy="576360"/>
          </a:xfrm>
          <a:prstGeom prst="downArrow">
            <a:avLst>
              <a:gd name="adj1" fmla="val 50000"/>
              <a:gd name="adj2" fmla="val 2854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00360" y="3141720"/>
            <a:ext cx="431640" cy="2374920"/>
          </a:xfrm>
          <a:prstGeom prst="downArrow">
            <a:avLst>
              <a:gd name="adj1" fmla="val 50000"/>
              <a:gd name="adj2" fmla="val 137552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3932280"/>
            <a:ext cx="144000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mic Sans MS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4148280"/>
            <a:ext cx="144000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mic Sans MS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71640" y="4365720"/>
            <a:ext cx="143964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mic Sans MS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87280" y="4579920"/>
            <a:ext cx="1440000" cy="360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Comic Sans MS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419640" y="3573360"/>
            <a:ext cx="2663640" cy="865440"/>
          </a:xfrm>
          <a:prstGeom prst="flowChartMultidocument">
            <a:avLst/>
          </a:prstGeom>
          <a:solidFill>
            <a:srgbClr val="99cc00">
              <a:alpha val="6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Comic Sans MS"/>
              </a:rPr>
              <a:t>Forwarders</a:t>
            </a: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omic Sans MS"/>
              </a:rPr>
              <a:t>transport compan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780000" y="2852640"/>
            <a:ext cx="504720" cy="576360"/>
          </a:xfrm>
          <a:prstGeom prst="downArrow">
            <a:avLst>
              <a:gd name="adj1" fmla="val 50000"/>
              <a:gd name="adj2" fmla="val 2854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7640" y="2852640"/>
            <a:ext cx="504720" cy="576360"/>
          </a:xfrm>
          <a:prstGeom prst="downArrow">
            <a:avLst>
              <a:gd name="adj1" fmla="val 50000"/>
              <a:gd name="adj2" fmla="val 2854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17844000">
            <a:off x="5902920" y="2529360"/>
            <a:ext cx="504720" cy="576360"/>
          </a:xfrm>
          <a:prstGeom prst="downArrow">
            <a:avLst>
              <a:gd name="adj1" fmla="val 50000"/>
              <a:gd name="adj2" fmla="val 2854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rot="17359800">
            <a:off x="6046920" y="2025360"/>
            <a:ext cx="504720" cy="574560"/>
          </a:xfrm>
          <a:prstGeom prst="downArrow">
            <a:avLst>
              <a:gd name="adj1" fmla="val 50000"/>
              <a:gd name="adj2" fmla="val 2845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16200000">
            <a:off x="6120360" y="1448280"/>
            <a:ext cx="504720" cy="576360"/>
          </a:xfrm>
          <a:prstGeom prst="downArrow">
            <a:avLst>
              <a:gd name="adj1" fmla="val 50000"/>
              <a:gd name="adj2" fmla="val 2854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marL="190440" indent="-19044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C230-EDE7-45D6-A078-0BE50AAABCA3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33440" y="274320"/>
            <a:ext cx="4653000" cy="56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Poland 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84040" y="304920"/>
            <a:ext cx="3830760" cy="41148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952880" y="2666880"/>
            <a:ext cx="3886200" cy="160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rket Size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– sales -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nits/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ajor Goods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3.300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.00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Cooling (refrig.+freez.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10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et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washing+dish.)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1.10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700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Vac.Cleaners  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1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952880" y="4343400"/>
            <a:ext cx="3886200" cy="1523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roduct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roups</a:t>
            </a: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 of CEC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ooling &amp; Freezing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hing; Drying; D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ooker, Oven, Hobs, Hoods, MW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El.Kettles,Irons, Hair Dryers, Coffe M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Air Condit., Boilers..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762120"/>
            <a:ext cx="31240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5943600"/>
            <a:ext cx="38862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White Goods (Free standing, Built in)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Small Domestic Appliances, Heating &amp; Coo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4495680"/>
            <a:ext cx="380988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ercentage of Owners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frigeration: 9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reezing: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c. Washing Machines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85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oking Gas: 84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oking Electric: 1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VO: 2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Vacuum Cleaners: 9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1" idx="1"/>
            <a:endCxn id="103" idx="3"/>
          </p:cNvCxnSpPr>
          <p:nvPr/>
        </p:nvCxnSpPr>
        <p:spPr>
          <a:xfrm rot="10800000">
            <a:off x="3428280" y="2208960"/>
            <a:ext cx="1524600" cy="125820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2" idx="1"/>
            <a:endCxn id="103" idx="3"/>
          </p:cNvCxnSpPr>
          <p:nvPr/>
        </p:nvCxnSpPr>
        <p:spPr>
          <a:xfrm rot="10800000">
            <a:off x="3428280" y="2208960"/>
            <a:ext cx="1524600" cy="289656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4" idx="1"/>
            <a:endCxn id="103" idx="3"/>
          </p:cNvCxnSpPr>
          <p:nvPr/>
        </p:nvCxnSpPr>
        <p:spPr>
          <a:xfrm rot="10800000">
            <a:off x="3428280" y="2208960"/>
            <a:ext cx="1524600" cy="40777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105" idx="0"/>
            <a:endCxn id="103" idx="2"/>
          </p:cNvCxnSpPr>
          <p:nvPr/>
        </p:nvCxnSpPr>
        <p:spPr>
          <a:xfrm flipV="1" rot="16200000">
            <a:off x="1580760" y="3942720"/>
            <a:ext cx="838800" cy="267120"/>
          </a:xfrm>
          <a:prstGeom prst="bentConnector3">
            <a:avLst>
              <a:gd name="adj1" fmla="val 49978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952880" y="1295280"/>
            <a:ext cx="3886200" cy="129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of Inhabitant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38,6M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of Household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3.3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M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r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of  shop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 3-4.000 (10.000)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110" idx="1"/>
            <a:endCxn id="103" idx="3"/>
          </p:cNvCxnSpPr>
          <p:nvPr/>
        </p:nvCxnSpPr>
        <p:spPr>
          <a:xfrm flipV="1" rot="10800000">
            <a:off x="3428280" y="1942920"/>
            <a:ext cx="1524600" cy="267120"/>
          </a:xfrm>
          <a:prstGeom prst="bentConnector3">
            <a:avLst>
              <a:gd name="adj1" fmla="val 50000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12" name=""/>
          <p:cNvGrpSpPr/>
          <p:nvPr/>
        </p:nvGrpSpPr>
        <p:grpSpPr>
          <a:xfrm>
            <a:off x="7772400" y="380880"/>
            <a:ext cx="1203120" cy="847800"/>
            <a:chOff x="7772400" y="380880"/>
            <a:chExt cx="1203120" cy="847800"/>
          </a:xfrm>
        </p:grpSpPr>
        <p:sp>
          <p:nvSpPr>
            <p:cNvPr id="113" name=""/>
            <p:cNvSpPr/>
            <p:nvPr/>
          </p:nvSpPr>
          <p:spPr>
            <a:xfrm>
              <a:off x="7772400" y="380880"/>
              <a:ext cx="1203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99"/>
                  </a:solidFill>
                  <a:latin typeface="Times New Roman"/>
                </a:rPr>
                <a:t>P  o  l   </a:t>
              </a:r>
              <a:r>
                <a:rPr b="0" lang="pl-PL" sz="900" spc="-1" strike="noStrike">
                  <a:solidFill>
                    <a:srgbClr val="000099"/>
                  </a:solidFill>
                  <a:latin typeface="Times New Roman"/>
                </a:rPr>
                <a:t>a  </a:t>
              </a:r>
              <a:r>
                <a:rPr b="0" lang="en-US" sz="900" spc="-1" strike="noStrike">
                  <a:solidFill>
                    <a:srgbClr val="000099"/>
                  </a:solidFill>
                  <a:latin typeface="Times New Roman"/>
                </a:rPr>
                <a:t> n 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7789680" y="598320"/>
              <a:ext cx="1157400" cy="6303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859B-3672-495B-9DB1-00F8B22FB60E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806616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Example: </a:t>
            </a: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ElektroEko </a:t>
            </a:r>
            <a:br>
              <a:rPr sz="3000"/>
            </a:b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- first question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8066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houl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w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ight for WEEE or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to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e cost efficient?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hould be work directly with retailers/municipalities or have some big WEEE operators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at is life-time and life circle of our products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ow to implement Visible Fee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at are the best examples in Europe? (benchmark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ho should be shareholder of Recovery Organization? Should it be created by one sector or many?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57373-E59A-4B06-9433-B1207B4EAA9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26920" y="274680"/>
            <a:ext cx="806616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ElektroEko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26920" y="1600200"/>
            <a:ext cx="806616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50-70-80% of the marke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4 industries groupp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overing all product groups (from Anex IB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hape – big versio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Synergies between the industr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ain concernes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Speed (how many shpould be collecte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Which channel of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ducation as one of prioriti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municipaliti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5108-1BDD-4081-8C59-34696F64F4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Educational campaign regarding waste fluorescent lamps (1)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ctions aimed at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Verdana"/>
              </a:rPr>
              <a:t>consumer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n press, on billboards, in shop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essag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Do not throw them away! Pass the waste fluorescent lamps to shops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468360" y="2852640"/>
            <a:ext cx="6696000" cy="38642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6116760" y="2995560"/>
            <a:ext cx="2703240" cy="34578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ElektroEko’s educational campaign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4A0EF-B03E-468A-8324-C49F8140D31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6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www.elektroeko.pl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rcRect l="0" t="11808" r="14356" b="0"/>
          <a:stretch/>
        </p:blipFill>
        <p:spPr>
          <a:xfrm>
            <a:off x="1116000" y="1125360"/>
            <a:ext cx="6769080" cy="522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0487F-1706-4A5B-8694-D7125869A61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822960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Other parties of Polish system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55640" y="1196640"/>
            <a:ext cx="8229600" cy="495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ational Register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egister/Inspection - defini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previous Clearing House concep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German IAR exam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sks: eg system monitoring, reporting to the Ministry of Environ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National Inspector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ir efficiency, costs, communic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gainst free rid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ternational surveillance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Network of „national registers” concep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AB49-DF22-4BE4-A4CB-AE6E466BA8E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Poland – first result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1557360"/>
            <a:ext cx="79786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tistics from 2006-2007 and forecats for 2009-2010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(slide No 15)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ajor problems / challeng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ow results in collec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Education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Verdana"/>
              </a:rPr>
              <a:t>infrastructure</a:t>
            </a:r>
            <a:endParaRPr b="0" i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Free rid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Future risk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Lact of real competi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Price incre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ADD43-23D5-4D14-8EC8-72AAF776B8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WEEE systems - financing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1600200"/>
            <a:ext cx="813744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Possible scenario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signed by local A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ll financed by produc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unicipaliti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Visible fe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B8C4A-915C-4821-B418-4159C9BA0A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274320"/>
            <a:ext cx="81374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Visible Fee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9930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Time frame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 – deadline: 2011, 2013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Concern: historical waste only! – fee equal to the costs of the collection of products put on the market before 13th August 2005.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Hot to recognise the produc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arking the produc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Market reality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, first experiences</a:t>
            </a: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tailers approa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Other countr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E9C35-E9C1-4736-A7B3-5CDA34D9839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Historical / New</a:t>
            </a:r>
            <a:br>
              <a:rPr sz="3000"/>
            </a:b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Waste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0" y="1432080"/>
          <a:ext cx="9144000" cy="4375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2080"/>
                    <a:ext cx="9144000" cy="43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31302-A416-4039-9D11-3EFCEE8442F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Visible Fee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>
            <a:off x="5651640" y="2071800"/>
            <a:ext cx="3044520" cy="1881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</a:rPr>
              <a:t>Cost of collection, recycling and recovery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per WEEE uni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3300"/>
                </a:solidFill>
                <a:latin typeface="Times New Roman"/>
              </a:rPr>
              <a:t>60 z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11280" y="1557360"/>
            <a:ext cx="1676160" cy="13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dditional element on the invoice: </a:t>
            </a:r>
            <a:r>
              <a:rPr b="1" lang="pl-PL" sz="2800" spc="-1" strike="noStrike">
                <a:solidFill>
                  <a:srgbClr val="0000ff"/>
                </a:solidFill>
                <a:latin typeface="Times New Roman"/>
              </a:rPr>
              <a:t>20 z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1920" y="3082680"/>
            <a:ext cx="2512800" cy="778680"/>
          </a:xfrm>
          <a:prstGeom prst="roundRect">
            <a:avLst>
              <a:gd name="adj" fmla="val 16667"/>
            </a:avLst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Shop –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additional fe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999 + </a:t>
            </a:r>
            <a:r>
              <a:rPr b="1" lang="pl-PL" sz="2400" spc="-1" strike="noStrike">
                <a:solidFill>
                  <a:srgbClr val="0000ff"/>
                </a:solidFill>
                <a:latin typeface="Times New Roman"/>
              </a:rPr>
              <a:t>20z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4724280"/>
            <a:ext cx="2462400" cy="838440"/>
          </a:xfrm>
          <a:prstGeom prst="roundRect">
            <a:avLst>
              <a:gd name="adj" fmla="val 16667"/>
            </a:avLst>
          </a:prstGeom>
          <a:solidFill>
            <a:srgbClr val="99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4360" y="4005360"/>
            <a:ext cx="1511280" cy="647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0360" y="5851800"/>
            <a:ext cx="1315800" cy="790920"/>
          </a:xfrm>
          <a:prstGeom prst="upArrowCallout">
            <a:avLst>
              <a:gd name="adj1" fmla="val 41595"/>
              <a:gd name="adj2" fmla="val 41591"/>
              <a:gd name="adj3" fmla="val 16667"/>
              <a:gd name="adj4" fmla="val 6666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0000"/>
                </a:solidFill>
                <a:latin typeface="Comic Sans MS"/>
              </a:rPr>
              <a:t>-25z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08720" y="5734080"/>
            <a:ext cx="914400" cy="914400"/>
          </a:xfrm>
          <a:prstGeom prst="upArrowCallout">
            <a:avLst>
              <a:gd name="adj1" fmla="val 25002"/>
              <a:gd name="adj2" fmla="val 25000"/>
              <a:gd name="adj3" fmla="val 16667"/>
              <a:gd name="adj4" fmla="val 6666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Logist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0000"/>
                </a:solidFill>
                <a:latin typeface="Comic Sans MS"/>
              </a:rPr>
              <a:t>-10z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16720" y="5661000"/>
            <a:ext cx="1219320" cy="990720"/>
          </a:xfrm>
          <a:prstGeom prst="upArrowCallout">
            <a:avLst>
              <a:gd name="adj1" fmla="val 30771"/>
              <a:gd name="adj2" fmla="val 30769"/>
              <a:gd name="adj3" fmla="val 16667"/>
              <a:gd name="adj4" fmla="val 66660"/>
            </a:avLst>
          </a:prstGeom>
          <a:solidFill>
            <a:srgbClr val="800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omic Sans MS"/>
              </a:rPr>
              <a:t>Recycl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(+5 zł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24240" y="3874680"/>
            <a:ext cx="2067120" cy="460080"/>
          </a:xfrm>
          <a:prstGeom prst="upArrowCallout">
            <a:avLst>
              <a:gd name="adj1" fmla="val 112334"/>
              <a:gd name="adj2" fmla="val 112324"/>
              <a:gd name="adj3" fmla="val 16667"/>
              <a:gd name="adj4" fmla="val 6666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Profits -</a:t>
            </a:r>
            <a:r>
              <a:rPr b="0" lang="pl-PL" sz="1400" spc="-1" strike="noStrike">
                <a:solidFill>
                  <a:srgbClr val="ff3300"/>
                </a:solidFill>
                <a:latin typeface="Comic Sans MS"/>
              </a:rPr>
              <a:t>5 zł</a:t>
            </a: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, admin -</a:t>
            </a:r>
            <a:r>
              <a:rPr b="0" lang="pl-PL" sz="1400" spc="-1" strike="noStrike">
                <a:solidFill>
                  <a:srgbClr val="ff3300"/>
                </a:solidFill>
                <a:latin typeface="Comic Sans MS"/>
              </a:rPr>
              <a:t>5z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4581360"/>
            <a:ext cx="4392720" cy="1135080"/>
          </a:xfrm>
          <a:prstGeom prst="flowChartMultidocumen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Systems of collection, treatment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Comic Sans MS"/>
              </a:rPr>
              <a:t>logistics, </a:t>
            </a:r>
            <a:r>
              <a:rPr b="1" lang="pl-PL" sz="1600" spc="-1" strike="noStrike" u="sng">
                <a:solidFill>
                  <a:srgbClr val="000000"/>
                </a:solidFill>
                <a:uFillTx/>
                <a:latin typeface="Comic Sans MS"/>
              </a:rPr>
              <a:t>recovery/recyc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812000" y="5589720"/>
            <a:ext cx="1067040" cy="1008000"/>
          </a:xfrm>
          <a:prstGeom prst="upArrowCallout">
            <a:avLst>
              <a:gd name="adj1" fmla="val 26467"/>
              <a:gd name="adj2" fmla="val 26464"/>
              <a:gd name="adj3" fmla="val 16667"/>
              <a:gd name="adj4" fmla="val 66660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Comic Sans MS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3300"/>
                </a:solidFill>
                <a:latin typeface="Comic Sans MS"/>
              </a:rPr>
              <a:t>-20 z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5280" y="260280"/>
            <a:ext cx="1728720" cy="30168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oduce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620640"/>
            <a:ext cx="1218960" cy="22860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oduce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836640"/>
            <a:ext cx="1871640" cy="504720"/>
          </a:xfrm>
          <a:prstGeom prst="roundRect">
            <a:avLst>
              <a:gd name="adj" fmla="val 16667"/>
            </a:avLst>
          </a:prstGeom>
          <a:solidFill>
            <a:srgbClr val="ffffc9"/>
          </a:solidFill>
          <a:ln w="316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Produce</a:t>
            </a:r>
            <a:r>
              <a:rPr b="1" lang="pl-PL" sz="1600" spc="-1" strike="noStrike">
                <a:solidFill>
                  <a:srgbClr val="333333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620640"/>
            <a:ext cx="4176720" cy="1368360"/>
          </a:xfrm>
          <a:prstGeom prst="roundRect">
            <a:avLst>
              <a:gd name="adj" fmla="val 16667"/>
            </a:avLst>
          </a:prstGeom>
          <a:solidFill>
            <a:srgbClr val="ffcc99">
              <a:alpha val="54000"/>
            </a:srgbClr>
          </a:solidFill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333333"/>
                </a:solidFill>
                <a:latin typeface="Arial"/>
              </a:rPr>
              <a:t>RECOVERY ORGANIZA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00360" y="404640"/>
            <a:ext cx="2016000" cy="1081440"/>
          </a:xfrm>
          <a:prstGeom prst="leftArrow">
            <a:avLst>
              <a:gd name="adj1" fmla="val 50000"/>
              <a:gd name="adj2" fmla="val 46605"/>
            </a:avLst>
          </a:prstGeom>
          <a:solidFill>
            <a:srgbClr val="ffcc99">
              <a:alpha val="5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tio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harge </a:t>
            </a:r>
            <a:r>
              <a:rPr b="1" lang="pl-PL" sz="20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0" lang="pl-PL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20088600">
            <a:off x="2233440" y="5797440"/>
            <a:ext cx="790920" cy="1009800"/>
          </a:xfrm>
          <a:custGeom>
            <a:avLst/>
            <a:gdLst>
              <a:gd name="textAreaLeft" fmla="*/ 105840 w 790920"/>
              <a:gd name="textAreaRight" fmla="*/ 685080 w 790920"/>
              <a:gd name="textAreaTop" fmla="*/ 176760 h 1009800"/>
              <a:gd name="textAreaBottom" fmla="*/ 73224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129040" y="1832760"/>
            <a:ext cx="2620080" cy="844200"/>
          </a:xfrm>
          <a:custGeom>
            <a:avLst/>
            <a:gdLst>
              <a:gd name="textAreaLeft" fmla="*/ 597960 w 2620080"/>
              <a:gd name="textAreaRight" fmla="*/ 2022120 w 2620080"/>
              <a:gd name="textAreaTop" fmla="*/ 192600 h 844200"/>
              <a:gd name="textAreaBottom" fmla="*/ 651600 h 844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WEEE Collection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33% of EEE s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3779640" y="2492280"/>
            <a:ext cx="287964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1692000" y="2421000"/>
            <a:ext cx="1152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5565C6-C9D0-4AEE-B54C-7D5435866627}" type="slidenum">
              <a:t>39</a:t>
            </a:fld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54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Verdana"/>
              </a:rPr>
              <a:t>CECED Polska - Main Tasks</a:t>
            </a:r>
            <a:endParaRPr b="1" i="1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907560"/>
            <a:ext cx="8388360" cy="446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Official representation of the industry (legislation, PR...)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Established in 2004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oordination and integration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Communication improvemen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WEEE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Legisl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System prepara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Acti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Verdana"/>
              </a:rPr>
              <a:t>Performance Monitoring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Energy using products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Energy Labels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Time to Go! – earlier replacement of obsolite equipment, energy efficiency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Market tracking  - sell in panel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Certificates, Standardisation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900" spc="-1" strike="noStrike">
                <a:solidFill>
                  <a:srgbClr val="000000"/>
                </a:solidFill>
                <a:latin typeface="Verdana"/>
              </a:rPr>
              <a:t>other temporary special projects</a:t>
            </a:r>
            <a:endParaRPr b="1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2CCF4-330A-4CC4-9290-BB4251922C5F}" type="slidenum">
              <a:t>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6200" spc="-1" strike="noStrike">
                <a:solidFill>
                  <a:srgbClr val="000000"/>
                </a:solidFill>
                <a:latin typeface="Verdana"/>
              </a:rPr>
              <a:t>WEEE Forum</a:t>
            </a:r>
            <a:endParaRPr b="1" i="1" lang="en-US" sz="6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6BD-E8C7-4119-BBDC-95A9044426A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WEEE Forum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00000" y="1600200"/>
            <a:ext cx="7786800" cy="38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Located in Brusseles (Mr Pascal Leroy as Secretary General)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vering not only EU countrie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Grouping non profit (?) Recovery organisation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Responsible for reporting, benchmarking, lobbing, communication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91881-6A27-4A26-94F0-7488A6ADF3A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228600" y="1371600"/>
          <a:ext cx="8763120" cy="413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8763120" cy="413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44704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ecovery organizations by countries</a:t>
            </a:r>
            <a:r>
              <a:rPr b="0" i="1" lang="pl-PL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- exaple</a:t>
            </a:r>
            <a:r>
              <a:rPr b="0" i="1" lang="en-GB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8534520" y="613584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6666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1690560" y="40654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517840" y="40654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352680" y="40654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191120" y="406548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381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36">
                <a:moveTo>
                  <a:pt x="10800" y="418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36">
                <a:moveTo>
                  <a:pt x="8224" y="8242"/>
                </a:moveTo>
                <a:lnTo>
                  <a:pt x="12088" y="8242"/>
                </a:lnTo>
                <a:lnTo>
                  <a:pt x="12088" y="15239"/>
                </a:lnTo>
                <a:lnTo>
                  <a:pt x="13376" y="15239"/>
                </a:lnTo>
                <a:lnTo>
                  <a:pt x="13376" y="16162"/>
                </a:lnTo>
                <a:lnTo>
                  <a:pt x="8224" y="16162"/>
                </a:lnTo>
                <a:lnTo>
                  <a:pt x="8224" y="15239"/>
                </a:lnTo>
                <a:lnTo>
                  <a:pt x="9512" y="15239"/>
                </a:lnTo>
                <a:lnTo>
                  <a:pt x="9512" y="9147"/>
                </a:lnTo>
                <a:lnTo>
                  <a:pt x="8224" y="9147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033880" y="40654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900760" y="40654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764400" y="40654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593120" y="4065480"/>
            <a:ext cx="215640" cy="216000"/>
          </a:xfrm>
          <a:custGeom>
            <a:avLst/>
            <a:gdLst>
              <a:gd name="textAreaLeft" fmla="*/ 13680 w 215640"/>
              <a:gd name="textAreaRight" fmla="*/ 201960 w 215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36">
                <a:moveTo>
                  <a:pt x="0" y="0"/>
                </a:moveTo>
                <a:lnTo>
                  <a:pt x="21600" y="0"/>
                </a:lnTo>
                <a:lnTo>
                  <a:pt x="21600" y="21636"/>
                </a:lnTo>
                <a:lnTo>
                  <a:pt x="0" y="21636"/>
                </a:lnTo>
                <a:close/>
              </a:path>
              <a:path fill="lightenLess" w="21600" h="2163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36">
                <a:moveTo>
                  <a:pt x="21600" y="0"/>
                </a:moveTo>
                <a:lnTo>
                  <a:pt x="21600" y="21636"/>
                </a:lnTo>
                <a:lnTo>
                  <a:pt x="20200" y="20236"/>
                </a:lnTo>
                <a:lnTo>
                  <a:pt x="20200" y="1400"/>
                </a:lnTo>
                <a:close/>
              </a:path>
              <a:path fill="darkenLess" w="21600" h="21636">
                <a:moveTo>
                  <a:pt x="21600" y="21636"/>
                </a:moveTo>
                <a:lnTo>
                  <a:pt x="0" y="21636"/>
                </a:lnTo>
                <a:lnTo>
                  <a:pt x="1400" y="20236"/>
                </a:lnTo>
                <a:lnTo>
                  <a:pt x="20200" y="20236"/>
                </a:lnTo>
                <a:close/>
              </a:path>
              <a:path fill="lighten" w="21600" h="21636">
                <a:moveTo>
                  <a:pt x="0" y="2163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36"/>
                </a:lnTo>
                <a:close/>
              </a:path>
              <a:path fill="darken" w="21600" h="21636">
                <a:moveTo>
                  <a:pt x="10800" y="3812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36">
                <a:moveTo>
                  <a:pt x="10800" y="4186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36">
                <a:moveTo>
                  <a:pt x="8224" y="8242"/>
                </a:moveTo>
                <a:lnTo>
                  <a:pt x="12088" y="8242"/>
                </a:lnTo>
                <a:lnTo>
                  <a:pt x="12088" y="15239"/>
                </a:lnTo>
                <a:lnTo>
                  <a:pt x="13376" y="15239"/>
                </a:lnTo>
                <a:lnTo>
                  <a:pt x="13376" y="16162"/>
                </a:lnTo>
                <a:lnTo>
                  <a:pt x="8224" y="16162"/>
                </a:lnTo>
                <a:lnTo>
                  <a:pt x="8224" y="15239"/>
                </a:lnTo>
                <a:lnTo>
                  <a:pt x="9512" y="15239"/>
                </a:lnTo>
                <a:lnTo>
                  <a:pt x="9512" y="9147"/>
                </a:lnTo>
                <a:lnTo>
                  <a:pt x="8224" y="9147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458200" y="40654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629400" y="6172200"/>
            <a:ext cx="1800360" cy="360360"/>
          </a:xfrm>
          <a:custGeom>
            <a:avLst/>
            <a:gdLst>
              <a:gd name="textAreaLeft" fmla="*/ 23040 w 1800360"/>
              <a:gd name="textAreaRight" fmla="*/ 1777320 w 180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107828" h="21600">
                <a:moveTo>
                  <a:pt x="0" y="0"/>
                </a:moveTo>
                <a:lnTo>
                  <a:pt x="107828" y="0"/>
                </a:lnTo>
                <a:lnTo>
                  <a:pt x="107828" y="21600"/>
                </a:lnTo>
                <a:lnTo>
                  <a:pt x="0" y="21600"/>
                </a:lnTo>
                <a:close/>
              </a:path>
              <a:path fill="lightenLess" w="107828" h="21600">
                <a:moveTo>
                  <a:pt x="0" y="0"/>
                </a:moveTo>
                <a:lnTo>
                  <a:pt x="107828" y="0"/>
                </a:lnTo>
                <a:lnTo>
                  <a:pt x="106428" y="1400"/>
                </a:lnTo>
                <a:lnTo>
                  <a:pt x="1400" y="1400"/>
                </a:lnTo>
                <a:close/>
              </a:path>
              <a:path fill="darken" w="107828" h="21600">
                <a:moveTo>
                  <a:pt x="107828" y="0"/>
                </a:moveTo>
                <a:lnTo>
                  <a:pt x="107828" y="21600"/>
                </a:lnTo>
                <a:lnTo>
                  <a:pt x="106428" y="20200"/>
                </a:lnTo>
                <a:lnTo>
                  <a:pt x="106428" y="1400"/>
                </a:lnTo>
                <a:close/>
              </a:path>
              <a:path fill="darkenLess" w="107828" h="21600">
                <a:moveTo>
                  <a:pt x="1078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8" y="20200"/>
                </a:lnTo>
                <a:close/>
              </a:path>
              <a:path fill="lighten" w="1078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99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08080"/>
                </a:solidFill>
                <a:latin typeface="Arial"/>
              </a:rPr>
              <a:t>PPP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287820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990720" y="3741840"/>
            <a:ext cx="287280" cy="2872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1600" h="21600">
                <a:moveTo>
                  <a:pt x="108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1600" h="21600">
                <a:moveTo>
                  <a:pt x="8224" y="8224"/>
                </a:moveTo>
                <a:lnTo>
                  <a:pt x="12088" y="8224"/>
                </a:lnTo>
                <a:lnTo>
                  <a:pt x="12088" y="15221"/>
                </a:lnTo>
                <a:lnTo>
                  <a:pt x="13376" y="15221"/>
                </a:lnTo>
                <a:lnTo>
                  <a:pt x="13376" y="16144"/>
                </a:lnTo>
                <a:lnTo>
                  <a:pt x="8224" y="16144"/>
                </a:lnTo>
                <a:lnTo>
                  <a:pt x="8224" y="15221"/>
                </a:lnTo>
                <a:lnTo>
                  <a:pt x="9512" y="15221"/>
                </a:lnTo>
                <a:lnTo>
                  <a:pt x="9512" y="9129"/>
                </a:lnTo>
                <a:lnTo>
                  <a:pt x="8224" y="9129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2CBDB-1A73-4B56-BA8F-A82FEF6826C4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National</a:t>
            </a: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 regulations</a:t>
            </a: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 and achevement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11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Implementation in EU 15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 25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&gt; 2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Other countries (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non EU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</a:rPr>
              <a:t>Norway, Switzerland</a:t>
            </a: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Verdana"/>
              </a:rPr>
              <a:t>Collection of WEEE in 2007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2411280" y="2852640"/>
          <a:ext cx="2232000" cy="2914560"/>
        </p:xfrm>
        <a:graphic>
          <a:graphicData uri="http://schemas.openxmlformats.org/drawingml/2006/table">
            <a:tbl>
              <a:tblPr/>
              <a:tblGrid>
                <a:gridCol w="1548360"/>
                <a:gridCol w="6836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o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vak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,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he 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witzer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rw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5BC76-0E59-4FEE-B75E-85BA440CE2FA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International reports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Perchard’s report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U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Verdana"/>
              </a:rPr>
              <a:t>Commission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Useful links: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http://ec.europa.eu/environment/waste/weee/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ttp://www.cecedpolska.pl/?m=docs&amp;i=84_69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CC272-82FA-4122-B9A3-D23F6EB15D6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0872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800" spc="-1" strike="noStrike">
                <a:solidFill>
                  <a:srgbClr val="000000"/>
                </a:solidFill>
                <a:latin typeface="Verdana"/>
              </a:rPr>
              <a:t>Thank you for your attention!</a:t>
            </a: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Wojciech Konecki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Director Genera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ECED Polska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www.cecedpolska.p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Wojtek.konecki@cecedpolska.p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+48 22 668-84-95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obile: +48 602-150-602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86ACA-6D01-4F55-9CA7-57889FD3C27E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Verdana"/>
              </a:rPr>
              <a:t>CECED Polska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932360" y="907920"/>
            <a:ext cx="4211640" cy="1148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05854-7CA3-4E50-AD9D-5B60B67F039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8208720" cy="518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000000"/>
                </a:solidFill>
                <a:latin typeface="Verdana"/>
              </a:rPr>
              <a:t>Wojciech Konecki</a:t>
            </a:r>
            <a:endParaRPr b="1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Director Genera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CECED Polska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www.cecedpolska.p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Wojtek.konecki@cecedpolska.pl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+48 22 668-84-95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Mobile: +48 602-150-602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E3077-7BDD-40A5-8F72-3D8EA9DA742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9000" spc="-1" strike="noStrike">
                <a:solidFill>
                  <a:srgbClr val="000000"/>
                </a:solidFill>
                <a:latin typeface="Verdana"/>
              </a:rPr>
              <a:t>WEEE</a:t>
            </a:r>
            <a:endParaRPr b="1" i="1" lang="en-US" sz="9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4E41-3056-4C8D-8B05-BC62E6A051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000" spc="-1" strike="noStrike">
                <a:solidFill>
                  <a:srgbClr val="000000"/>
                </a:solidFill>
                <a:latin typeface="Verdana"/>
              </a:rPr>
              <a:t>WEEE</a:t>
            </a:r>
            <a:endParaRPr b="1" i="1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2656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WEEE Directive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WEEE in Poland 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Local la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ystem of collection and recycl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Other national regulations</a:t>
            </a:r>
            <a:endParaRPr b="1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DD94D-75F7-46A1-8596-3B77417D32D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70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000000"/>
                </a:solidFill>
                <a:latin typeface="Verdana"/>
              </a:rPr>
              <a:t>SHARE OF BUSINESSES</a:t>
            </a:r>
            <a:endParaRPr b="1" i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2060640"/>
          <a:ext cx="3695760" cy="33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>
                    <a:alphaModFix amt="50000"/>
                  </a:blip>
                  <a:stretch/>
                </p:blipFill>
                <p:spPr>
                  <a:xfrm>
                    <a:off x="971640" y="2060640"/>
                    <a:ext cx="369576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4859280" y="2060640"/>
          <a:ext cx="3721320" cy="336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>
                    <a:alphaModFix amt="50000"/>
                  </a:blip>
                  <a:stretch/>
                </p:blipFill>
                <p:spPr>
                  <a:xfrm>
                    <a:off x="4859280" y="2060640"/>
                    <a:ext cx="3721320" cy="33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971640" y="1413000"/>
            <a:ext cx="3657600" cy="5814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k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32360" y="1413000"/>
            <a:ext cx="3657600" cy="581400"/>
          </a:xfrm>
          <a:prstGeom prst="rect">
            <a:avLst/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Arial"/>
              </a:rPr>
              <a:t>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91C16-24C7-47B6-9C19-0A65DB15996E}" type="slidenum">
              <a:t>9</a:t>
            </a:fld>
          </a:p>
        </p:txBody>
      </p:sp>
    </p:spTree>
  </p:cSld>
  <p:transition spd="med"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09:58:33Z</dcterms:created>
  <dc:creator>dp</dc:creator>
  <dc:description/>
  <dc:language>en-US</dc:language>
  <cp:lastModifiedBy>wojtek</cp:lastModifiedBy>
  <dcterms:modified xsi:type="dcterms:W3CDTF">2008-07-02T09:00:41Z</dcterms:modified>
  <cp:revision>111</cp:revision>
  <dc:subject/>
  <dc:title>“High Added Value Soft Actions Facilitating Participation of NMS &amp; ACC and INCO Organisations in FP7-IST through the Innovative Use of the Concept of “Grid Computing”</dc:title>
</cp:coreProperties>
</file>